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E26E-A439-46AB-A0C0-64153B5E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EDF8-F7C4-450C-85DE-5BB771D2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B8B-118C-4225-9BA0-C582F3CD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0115-3A52-4ECE-A359-1F6A86B4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2BC1-6B09-4242-8FC9-2BD20C33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7ECC-07B7-4311-A9EC-4B61AF01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9D6C-1710-4B84-A5FC-F0538888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9BCF-F6F4-467A-8C64-6C9180D2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1959-94FD-45E4-B2FD-B1FA2D26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0642-4B54-451E-A300-FACAE508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D3DA-2158-46BE-88A8-D0332442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B869-3109-40D6-9A1B-DF7E3424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F845-79B5-4723-881E-A456DD29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C9EE-FE2D-4410-9184-DE2CD6A1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FB5D-7EE9-42AD-BD14-77723B52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5B78-282C-4627-A82B-0DC59795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4AA7-4126-47E7-B2C5-D5DA383D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6F19-5355-45F1-87C2-9E0DD7A6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018F-1AE0-44C2-8688-D0F44CE6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214D-F61F-4D14-980B-72AC5351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CE0D-304B-4E21-A331-C7F9900C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23CC-E401-47C3-BD7B-2A592049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2F9F-B195-45B1-9B01-01D94AE7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2804-1162-49BD-9358-75DF088E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4FF9-98A3-46BA-89A7-DF156EA4A6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C08F-B310-4FA4-86A6-7CCE7ABD5A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www.alaska.net/" TargetMode="External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hitehouse.gov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 44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ation of the WW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ies required: HTML, Brow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ML : Designed by Tim Berners-Lee at CERN.  HTML = Hypertext Markup Language, text format for describing layout, multimedia, hyper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aic : First browser created by Marc Andreessen at NCSA in 1993.  Went on to found Netsca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ML, browsers spec continues to change to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vious simplified model was 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different topologies, or ways to connect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can be classified in many different ways.  One of the most common is by geographic scop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Area Networks (LA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 Networks (B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ropolitan Area Networks (MA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Area Networks (WA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01-03" descr=""/>
          <p:cNvPicPr/>
          <p:nvPr/>
        </p:nvPicPr>
        <p:blipFill>
          <a:blip r:embed="rId1"/>
          <a:stretch/>
        </p:blipFill>
        <p:spPr>
          <a:xfrm>
            <a:off x="1801800" y="127080"/>
            <a:ext cx="5437080" cy="67309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67080" y="76320"/>
            <a:ext cx="3200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ypes of Networks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oup of microcomputers of terminals located in the same general area and connected by a common circuit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s a clearly defined small area, such as within or between a few rooms or build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support data rates of 10 to 100 million bits per second (Mbp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Network (B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rger, central network connecting several LANs, other BNs, metropolitan area networks, and wide area network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span up to several mile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supports data rates from 64 Kbps to 45 Mb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this term is also applied to WAN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this course abou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etwork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ystem for connecting computer using a single transmission technolog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tern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et of networks connected by routers that are configured to pass traffic among any computers attached to networks in the se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mission - media, data encod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transmission - data exchange over a networ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- universal service over a collection of networ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pplications - programs that use an interne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Area Network (M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LANs and BNs located in different areas to each other and to wide area networ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span from 3 - 30 mi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supports data rates of 100 to 1000 Mb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Area Network (W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BNs and MANs and are usually leased from inter-exchange carriers (IXC’s), i.e. common carr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span hundreds or thousands of mi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supports data rates of 28.8 Kbps to 2 Gb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es the data travel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may travel different paths in a network, there are currently two different approaches to implement thi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end-to-end communications path established for the duration of the convers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between the sender and receiver is called a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also serves as a constant transmission rate for the duration of the connection –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uarante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an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ght use multiplexing, where multiple devices share the same communications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of circuit switching: telephone network, IS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may be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examples: X.25, Frame Relay,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s.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 not suitable for real-time servic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sharing of bandwid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der statistical us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r, more efficient, less cos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nd toward 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: Asynchronous Transfer Mode, Packet switching, but allows constant data rate channel similar to circuit switching… we will examine it more later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ware an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N/WAN hardware can't solve all computer communication proble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ing data through raw hardware is awkward and inconvenient - doesn't match programming paradigms wel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agine reading a disk by having to write your own code each time to position the read/write head, seek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oftware provides a high-level interface to applic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this software for LAN and WAN systems is large and complicat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y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tructuring technique to organize networking software design and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s an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oftware at each layer adheres to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etwork 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is a set of rules that specify the format and meaning of messages exchanged between computers across a network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t is sometimes call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ing is sometimes call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s are implement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tocol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Sui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t of related protocols that are designed for compatibility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tocol sui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uite designe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ze communication proble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e problems into subproble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a protocol for each subproble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well-designed protocol sui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efficient and effective - solves the problem without redundancy and makes best use of network capac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replacement of individual protocols without changes to other protoc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rst, a Brief History of the Intern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447920"/>
            <a:ext cx="8458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PAnet (Advanced Research Projects Agency) in 19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computers w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ns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footprint , Centraliz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s took a long time to r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n't afford to put computers every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communic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 research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 dissimilar computers to shar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route information 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 as a network of networks; inter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ly just 4 sit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: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 a file transfer problem might use three layers, each is independent with their own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mits file transfer commands, e.g. “Send File X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transport service lay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 integrity, break data into pack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face to hardware, addressing,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ultiple protocols at each layer, since they are independent, one could invoke other protocol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: Protocols in Simplified File Transfer Ap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: 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 is added to the packet of data at each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t with a packet at the Application Lay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ransport Layer adds its own header of control information to the pack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ght even fragment a big packet into multiple little pack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so, must add sequence numbers, ID of sending application or there may be confusion if multiple apps, data arrives out of sequ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etwork layer may in turn add its own header of control information to the Transport Layer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addressing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: 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 are protocols in the suite; there are many other protocols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n system, not proprietary (e.g. Appletalk, IPX/SPX, netbeu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vendors for the different layers of the st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access layer or Data Link layer or Device lay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s is a logical idea - can be ignored in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pplication software used by the network user, allows the user to define what message are sent over the net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the message generated by the application layer and performs these functions before passing them to the IP lay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 Attaches application identifier (i.e. the port numb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 Splits data into packets for ordering of delive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  Collects message accounting information that can be used to identify how many messages each user has sent and to track errors.    This provides the reliable delivery of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each packet generated by the TCP layer and performs the following functions before passing it to the Data Link / Network Access lay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an address for the destination understood by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may be attached to different networks, provides routing functions from source to destination across multipl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vice / Data Link / 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the message generated by the IP layer and performs three functions before passing the message on the physical lay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 It controls the physical layer by deciding when to transmit messages over the med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 It formats the message by indicating where messages start and end, and which part is the addre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  It detects and corrects any errors that have occurred in the transmission of the mess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.  It transfers a series of electrical, radio, or light signals through the circuit from sender to receiv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al ARPANet Si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72428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Lay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752480"/>
            <a:ext cx="25146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5520" y="1870200"/>
            <a:ext cx="2242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(f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(tc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(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Link (e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2438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3200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3962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800600"/>
            <a:ext cx="3200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7320" y="487692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(10Ba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43280" y="3352680"/>
            <a:ext cx="180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outer up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Lay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3200400"/>
            <a:ext cx="2667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4340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8148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181480" y="4876920"/>
            <a:ext cx="3200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838188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24480" y="1898640"/>
            <a:ext cx="25146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59120" y="2016000"/>
            <a:ext cx="239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(ftp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(tc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(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Link (e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258444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334656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4108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5320" y="487692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(R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2133720"/>
            <a:ext cx="3200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2819520"/>
            <a:ext cx="3200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365760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365760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8" name="01-05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3824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16360" y="5791320"/>
            <a:ext cx="85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 in this picture includes Transport and Internet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225720" y="1676520"/>
            <a:ext cx="871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 (SMTP/POP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net/rlo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ro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T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/HTT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/Boo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/ ICMP / IG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Li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ernet / AR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P, 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 Ring, Xmodem, HD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1676520"/>
            <a:ext cx="883944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327672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411480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487692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905120" y="16761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724280" y="16761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858000" y="16761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/ Interne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7068960" cy="3767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25240" y="1447920"/>
            <a:ext cx="77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member that the layers are independen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of TCP/IP St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s in the protocol physically communicate either up or down the st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layer talks to Internet and Application layer, never directly to the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s of other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s in the protocol logically communicate with the peer layer of the recip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TP source client talks to FTPD on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source talks to remote endpoint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source talks to remote endpoint IP, maybe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04920" y="1828800"/>
            <a:ext cx="333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Importance of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are necessary in almost every business and public service ent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imary reason for standards is to ensure that hardware and software produced by different vendors can work toget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use of standards makes it much easier to develop software and hardware that link different networks because software and hardware can be developed one layer at a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Standards Making Pro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types of standar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ormal standar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e developed by an official industry or government bod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efacto standar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merge in the marketplace and supported by several vendors, but have no official stand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Standards Making Proces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l standardization process has three s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pecifi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ge:  developing a nomenclature and identifying the problems to be addres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dentification of choic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ge:  those working on the standard identify the various solutions and choose the optimum solution from among the alternati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ccep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 most difficult stage: defining the solution and getting recognized industry leaders to agree on a single, uniform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in 197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2392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unications 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tional Organization for Standards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the ITU, makes technical recommendations about data communications interfa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unications 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tional Telecommunications Union - Telecommunication Standardization Sector (ITU-T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ical standard setting organization of the UN ITU.  Formerly called the Consultative Committee on International Telegraph and Telephone (CCIT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rised of representatives of over 150 Postal Telephone and Telegraphs (PTTs), like AT&amp;T, RBOCs, or common carri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5960" y="1447920"/>
            <a:ext cx="883908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n National Standards Institute (AN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itute of Electrical and Electronics Engineers (IEE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onic Industries Association (E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ional Institute of Standards and Technology (NI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ional Exchange Carriers Association (NEC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ion for Open Systems (CO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onic Data Interchange -(EDI) of Electronic Data Interchange for Administration Commerce and Transport (EDIFAC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, HTML, POP, MPEG, HTT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, IPX/SP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.3 Ethernet, Token Ring, PPP, X-modem, H.28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, IEEE CAT 5 Cable, V.90, V.3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ing The Internet: Ap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ools are common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sends message that is echoed by remote comput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guments and behavior varies a bit between Windows/Un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racerou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reports path to remote comput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racert in Windo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tools are quite useful for rudimentary debugging of the network.  We will examine both in more detail later, but first here is a look at their high-level us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448560" y="1523880"/>
            <a:ext cx="565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s packet to remote compu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computer replies with echo pac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mputer reports receipt of rep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inclu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nd tr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7760" y="3333600"/>
            <a:ext cx="8547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zzy&gt; ping beowulf.alaska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NG beowulf.alaska.net (209.112.130.8): 56 data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4 bytes from 209.112.130.8: icmp_seq=0 ttl=237 time=140.3 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4 bytes from 209.112.130.8: icmp_seq=1 ttl=237 time=139.6 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4 bytes from 209.112.130.8: icmp_seq=2 ttl=237 time=151.0 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4 bytes from 209.112.130.8: icmp_seq=3 ttl=237 time=137.0 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 beowulf.alaska.net ping statistics 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 packets transmitted, 4 packets received, 20% packet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und-trip min/avg/max = 137.0/141.9/151.0 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ceroute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292680" y="1523880"/>
            <a:ext cx="784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s series of packets along path to desti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uccessive packet identifies next router along pa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 have a “Time To Live” option that is incre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anding 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s list of pack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520" y="3657600"/>
            <a:ext cx="9203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zzy&gt; traceroute styx.gci.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aceroute to styx.gci.net (208.138.129.15), 30 hops max, 46 byte pac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  137.229.114.101 (137.229.114.101)  0.896 ms  0.737 ms  0.694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  swa-7206-1.uaa.alaska.edu (137.229.101.2)  1.540 ms  0.836 ms 0.896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  121-village-net.gci.net (209.165.156.121)  1.589 ms  2.062 ms 1.574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  * styx.gci.net (208.138.129.15)  5.530 ms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3920" y="5603760"/>
            <a:ext cx="60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UAA, try a traceroute to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www.alaska.n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Ping/Tracerou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protocols were involv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a high level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ng : The app sent data in some format that was recognized by the receiver.  The receiver was running a program whose responsibility was to echo the packet b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eroute : The app sent data with increasing TTL fields.  There must be some receiver program that will report back “Your packet died her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ussion Problem: Email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y you want to devise a protocol that can receive data from a client and eventually pass it on to the recipient (i.e. sendmail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should be in this protocol?  What layer are we talking about?  Ideas for defining it?  We will look at email a bit more in a homework exerci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re Internet Histo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5 – ARPAnet splits into MILNET and NSF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 – Usenet/UUCP over mod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82 – DARPA uses TCP/IP over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83 – BSD Unix over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84 – D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88 – Morris w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93 – Web starts to take o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www.whitehouse.g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94 – Big business online boo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olution of the Intern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rcial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, Compuserve, et. al.  grow in the 80’s, incorporated into Internet in 9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FNet shut down in 1995 in favor of NAP structure, commercial backb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Growt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# Hosts (Computers connecte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26768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# of Web Si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07696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Kenrick</dc:creator>
  <dc:description/>
  <dc:language>en-US</dc:language>
  <cp:lastModifiedBy>Kenrick Mock</cp:lastModifiedBy>
  <dcterms:modified xsi:type="dcterms:W3CDTF">2001-08-27T01:36:20Z</dcterms:modified>
  <cp:revision>55</cp:revision>
  <dc:subject/>
  <dc:title>Networking</dc:title>
</cp:coreProperties>
</file>