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F4A-F25B-4312-9D6E-BF22DC05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C9D-405B-4D25-9B69-7A1867EE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FFE-0F30-4230-8DB0-4E98FD8A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12120"/>
            <a:ext cx="27478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506-2F41-4A34-BCB8-07765455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F74-4CE9-4AF0-B638-71A0061F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AC3-34CC-4BE8-A1C1-F9C56363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4D5-B182-4569-8398-DF84CB86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768-F598-4D8B-9C1C-01B603E0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CC1-4E48-43A5-8C7F-D0EBA06A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081-5E6A-4A8A-BA40-8E6691B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A53-4085-4BC2-A069-33FCCD7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E24-6A72-4BDD-BFCC-5BDE063C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5579-DA08-4E92-8715-75DE7EDDF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 : Interne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s 18,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Class at a G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dotted decimal makes separating network address from host address easier, determining class is not so obvio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t first dotted decimal number, and use this tab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495288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12880" y="6060960"/>
            <a:ext cx="72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 little binary number conversion based on first 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619760" cy="244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the Address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ng scheme does not yield equal number of networks in each cla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bit must be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remaining bits identify Class A 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= 128) possible class A n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r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4876920"/>
            <a:ext cx="803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out of IP’s?    Not allocated very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~4 billion possible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 all of the hosts being used!   Some IP’s reserved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UA have 65536 hosts?    Stanford used to own a Cla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 : Classless addressing, private addres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rved Addres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C 1597 – Address Allocation for Private Inter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blocks are reserved for private inter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10.0.0.0 - 10.255.255.255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a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172.16.0.0 - 172.31.255.255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192.168.0.0 - 192.168.255.255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ll need a gateway to translate from these addresses to the Internet addresses, and we’ll examine this later… common way to connect a home network to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hould never see a machine on the Internet with one of these network prefixes (hopefu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2786040"/>
            <a:ext cx="6095880" cy="4376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ful Address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with four networks, completely privat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Class A,B,C addresses as appropriate for number of hosts on each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pecial 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itself is assigned a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no host can have all zero’s as its IP address suf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is the network prefix, suffix is all zer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Broadc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message to 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is the network prefix, suffix is all on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no host can have all one’s as its IP address suf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roadc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on the local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address is all 1’s, i.e. 255.255.255.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pecial 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mputer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an address automatically when booting, we may use IP to communicate… but we don’t have a correct IP address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n address of all zero’s to indicate “this compu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back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address beginning with 127 indicates the local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127.0.0.1 most common, but could be 127.0.44.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or testing, no packets leave th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Address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4582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 and Classless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ful Addressing can be wasteful if we don’t utilize all the hosts within a network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echanisms to overcome the 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three distinct network classes, allow the division between prefix and suffix to occur on arbitrary bit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with 9 hosts; only need 4 bits of suffix to 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smallest class is class C, 254 hosts, so we’ll waste 245 possible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less addressing lets have the 4 bits of suffix we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IP addresses are assigned so that all computers on the same local area network are on the sa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ustomary to use the last byte of the IP address to indicate different sub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class 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any portion of the IP address can be designated as a subnet by using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 ma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IP addresses are binary numbers, so partial bytes can be used as subn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Sub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11120" y="0"/>
            <a:ext cx="652176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key aspect of virtual network is single, uniform address form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't use hardware addresses because different technologies have different address form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format must be independent of any particular hardware address form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address a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ing host puts destination internet address in 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address can be interpreted by any intermediate ro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s examine address and forward packet on to the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se addresses are virtual; they are defined in software, not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 M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subnet mask: 255.255.255.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3 bytes all on the same subnet, only varies in the last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5 = 11111111  in binary.  The bits form a “mask” – where there is a 1, this means the subnet is the sa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2.168.0.1,  192.168.0.2, 192.168.0.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net mask: 255.255.25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= 11111111  11111111  11111110 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.1.5 on the same subnet as 1.1.0.5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01  00000001  00000001  0000010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01  00000001  00000000  00000101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.1.5 on the same subnet as 1.1.2.5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01  00000001  00000001  0000010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001  00000001  00000010  00000101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nets and Subnet M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net mask lets us divide the address space on arbitrary bit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better allocation of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computers and routers use the subnet m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sending to a destination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destination IP address to our own subnet 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st is on the same subnet, just broadcast data on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st on another subnet, send to a gateway or 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ubnet mask with the network address of attached networks to determine proper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DR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DR = Classless Inter-Domain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for classless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the mask associated with a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s a slash to the address with the size of the mask in 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.10.0.0/16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s 16 bit prefix, 16 bit suffix (Class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.211.0.16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bit prefix, 4 bit suf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238880" cy="506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D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760" y="5867280"/>
            <a:ext cx="79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idn’t the lowest start at 0000 and highest at 11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disadvantage; not so easy to read host values from 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computer knows its network layer address from a configuration file.  However, each time the computer is moved, or its network is assigned a new address, the software on each individual computer must be upd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dynamic addressing.  With this approach, a server is designated to supply a network layer address to a computer each time the computer connects to the network from an available “pool” of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s “Next Available”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s roaming computers, dial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tandards for dynamic addressing are commonly used in TCP/IP net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strap Protocol (boo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Host Control Protocol (DH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3409920"/>
            <a:ext cx="6248160" cy="3448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rs and 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ddress depends on network addr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routers - connected to two network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address specifie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network attachment point, not necessarily a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has multiple IP addresses - one for each 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Homed 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s (that do not forward packets) can also be connected to multiple net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forwards packets, it’s a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ncrease reliability and 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network fails, the host can still reach the internet through the second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send data on multiple networks for increase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homed hosts also have one address for each interf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Protocol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per levels of protocol stack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tocol addre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e.g. IP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hardware must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dware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ventual deliv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address must be translated into hardware address for delivery; how can this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ddress translation is only necessary for the local LAN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Consider if we need the hardware address if sending to a remote computer across the Intern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5.4-2arp" descr=""/>
          <p:cNvPicPr/>
          <p:nvPr/>
        </p:nvPicPr>
        <p:blipFill>
          <a:blip r:embed="rId1"/>
          <a:stretch/>
        </p:blipFill>
        <p:spPr>
          <a:xfrm>
            <a:off x="4495680" y="4152960"/>
            <a:ext cx="4572000" cy="270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(MAC) addresses are different than IP addresses.  Given an IP address for a machine on the same LAN, what is its MAC address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P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 Resolu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IP node (Host, Router) on the LAN has ARP module and Table.  This operates a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P Table: IP/MAC address mapping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IP address; MAC address; TT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 (Time To Live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r, typical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ARP: Address Resolution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(mo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 wants to send packet to destination IP addr XYZ on same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Host first checks own ARP Table for IP addr 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XYZ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ARP Table, ARP modu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ca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P pkt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XYZ, MAC (?)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nodes on the LAN accept and inspect the ARP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XYZ responds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ca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P pkt carrying own MAC add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 XYZ, MAC (XYZ)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ch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RP Table for futur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A then send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c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ta packet to MAC(XY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broadcast the data in the first place rather than incur three separate transmiss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/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 in TCP/IP is specifi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et Protoc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ost is assigned a 32-bit 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net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across entire Int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P address is divided into a prefix and a suffi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ix identifies network to which computer is attac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two networks can be assigned the same networ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x identifies computer within that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two computers on the same network can have the same suffix, but computers on different networks can have the same suf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format makes routing 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495680" cy="2906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Table Loo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simple list containing IP address and hardware address for each host on 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on IP address and extract corresponding hardware addres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all IP addresses have same prefix; can save space by dropping pref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334120" cy="3125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Table Loo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search may be prohibitively expensiv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s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k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ing -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s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t of IP address as list (array) inde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ing - use hashing function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generate list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Message Exchang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043680" cy="4673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1560" y="5603760"/>
            <a:ext cx="80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ARP’s for Y’s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one hears the 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Y responds with a Unicast message (still broadcast on 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Message 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tocol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dware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protocol address and hardware address sizes are vari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= 6 oct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= 4 oct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for other protocols and hardware types but in reality just used for Ethernet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6667560" cy="3321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4290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RDWARE ADDRESS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for Eth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TOCOL ADDRESS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x0800 for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for request, 2 for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bo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ppings from protocol address to hardware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sets hardware address of target to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can extract hardware address of sender (saving an ARP reque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exchanges sender/target in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4648320"/>
            <a:ext cx="6553080" cy="187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6134040" cy="1989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ing an ARP Re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constructs ARP mes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P message carried as data in hardware frame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eparate fram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uses type 0x080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, route packet from source IP addr  &lt;111.111.111.111&gt; to destination addr   &lt;222.222.222.22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outing table at source Host, find router 111.111.111.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RP table at source, find MAC address E6-E9-00-17-BB-4B, etc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P does not span LA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5.4-42lan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303960" cy="2450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Packet to another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IP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numbers (prefix) are u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f network numbers must be coordinated globally to ensure uniqu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ed by ICANN (formerly InterNIC/Network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addresses (suffix) may be reused on different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 of network number prefix and host address suffix will be u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f host addresses can be managed lo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your ISP can set the host addresses and names within the purview of their assigned network by IC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ing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designers chose 32-bit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32 bits in IP version 4 used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cause a problem soon, not a large enough address spa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some bits for prefix, some for suffi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refix, small suffix - many networks, few hosts per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prefix, large suffix - few networks, many hosts per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variety of technologies, need to allow for both large and small networ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908440"/>
            <a:ext cx="6934320" cy="349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ful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rs chose a compromise - multiple address formats that allow both large and small prefi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ormat is called an addre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of an address is identified by first four 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A, B and C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mary 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ordinary host addr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of a class is assigned a prefix, gets to pick what machines they want in the suf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 and B are all alloca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 is used for multicast, a limited form of broadc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hosts join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cast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are delivered to all members of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s manage delivery of single packet from source to all members of multicast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b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ulticast backbo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E is reserved for futur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ted Decim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A, B and C all break between prefix and suffix on byte bound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tted decimal 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vention for representing 32-bit internet addresses in decim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byte of address into decimal; display separated by periods (``dots'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70102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ing at 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versity of Alaska has a single Class B network address, 137.229.0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osts at UA have a 137.229 prefix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7.229.134.207 – mazzy.math.uaa.alaska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7.229.16.20 – www.uaf.alaska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7.229.150.11 – vor.uas.alaska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bytes are used to determine local network and host throug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net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rick Mock</cp:lastModifiedBy>
  <dcterms:modified xsi:type="dcterms:W3CDTF">2001-11-01T09:09:16Z</dcterms:modified>
  <cp:revision>67</cp:revision>
  <dc:subject/>
  <dc:title>PowerPoint Presentation</dc:title>
</cp:coreProperties>
</file>