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3.xml.rels" ContentType="application/vnd.openxmlformats-package.relationships+xml"/>
  <Override PartName="/ppt/notesSlides/notesSlide4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04400" cy="959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5612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25960" y="-360"/>
            <a:ext cx="31557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47400" y="717120"/>
            <a:ext cx="4786200" cy="3589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9480" y="4544640"/>
            <a:ext cx="5342040" cy="43052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089640"/>
            <a:ext cx="315612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25960" y="9089640"/>
            <a:ext cx="3155760" cy="47772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fld id="{B36EE774-49A2-4AF1-9282-FFD5D071C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55680" y="719280"/>
            <a:ext cx="4794120" cy="3595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72720" y="4554360"/>
            <a:ext cx="5356440" cy="4314960"/>
          </a:xfrm>
          <a:prstGeom prst="rect">
            <a:avLst/>
          </a:prstGeom>
          <a:noFill/>
          <a:ln w="0">
            <a:noFill/>
          </a:ln>
        </p:spPr>
        <p:txBody>
          <a:bodyPr lIns="96480" rIns="9648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-3 = Optical Carrier, 155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4C8-A258-49B7-B060-76A996E57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B7C2-780F-485A-9461-2CC368E2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BC6A-2F36-4185-88C4-0F343DB3A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60020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948480"/>
            <a:ext cx="27968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73A80-D863-4C63-9D46-1171AB659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B312-709D-4F33-BABA-441C2B3B7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809-990C-424F-BF80-7A5BAA218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7D506-7D0D-43B3-93B8-B930AD5C1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E3AB-7EBA-42F7-AE9B-DDAB12D86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76320"/>
            <a:ext cx="80773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06AE-D0AD-40B8-AA67-62EBAC2B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09EB-9A47-4F5B-BF32-149E9B504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94848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6998-6D5A-4BB5-8AAC-FE8FD0047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600200"/>
            <a:ext cx="42390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948480"/>
            <a:ext cx="8686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079A-27B7-425B-89F6-842CD3C2A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E53C4-14B5-4F2B-84D4-3ACC7265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-Based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S44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05-06" descr=""/>
          <p:cNvPicPr/>
          <p:nvPr/>
        </p:nvPicPr>
        <p:blipFill>
          <a:blip r:embed="rId1"/>
          <a:stretch/>
        </p:blipFill>
        <p:spPr>
          <a:xfrm>
            <a:off x="228600" y="130320"/>
            <a:ext cx="8305920" cy="66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c Repeat reQuest (ARQ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n this la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191120" y="3962520"/>
            <a:ext cx="3971880" cy="27050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mplest is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int to poi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s connected by communication channels that each connect exactly two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flexibility in communication hardware, packet formats, et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security and privacy because communication channel is not share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it doesn’t sc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1143000" y="5308560"/>
                <a:ext cx="259092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nn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n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echn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cost by reducing number of connections via a shared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u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.. attached computers compete for use of shared connec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 communication almost exclusively L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out OK though due to locality of re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iple that we access computers nearby more frequently than those far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ng distance almost exclusively point-to-po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m / P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Topolo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s and Tree Proper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identify target station, each station has uniqu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hogging, data in small blocks -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Transmission - Bus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762120" y="1371600"/>
            <a:ext cx="4416480" cy="54864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5775480" y="1523880"/>
            <a:ext cx="26827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broadcast to all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one system may transmit at a time or we get 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transmissions if cable is c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coax c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ng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76176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ng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r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ch station connected directly to central n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ually via two point to point lin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ode can broadc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hysical star, logical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one station can transmit at a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al node can act as frame swit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ents broadcast to other stations except destination, can increase network 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ically use twisted pair as the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71600" y="5300640"/>
            <a:ext cx="6477120" cy="170964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cket = Small block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ending data of shared networks, e.g. multiplex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= Packet, but in the context of a specific type of networ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send a frame, the sender and receiver must agree on the format of the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e. we must know how to specify the beginning and the end of each 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nchronous - block of data transmitted without start or stop bits, requires synchronized clock (or embed clock signal in data, e.g. Manchester encod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wo Level Star Top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80520" y="1600200"/>
            <a:ext cx="331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connect hubs to hu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thods for Media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ed to keep collisions from happe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dia Access Control - Ethernet (CSMA/C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ginal form: 10 Mbps, or 1.25 Mbytes/se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adcast 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tributed access control; i. e., no central control on when you ca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s randomly access medium, contend for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gets every pac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’s Predecessor - ALOH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listens (for max round trip time) plus small inc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 utilization 18% - propagation delay &lt; transmission time, high chance of collision!  Can wait/listen for free medium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pagation time is much less than transmission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vel at about 70% the speed of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stations know that a transmission has started almost immedi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 utilization depends on propagation time (medium length) and frame leng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er frame and shorter propagation gives better uti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listen for clear medium (carrier sen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wo stations start at the same instant,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ait reasonable time (round trip  plus ACK conten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CK then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f Bus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medium is idle, transm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busy, listen for idle then transmit immediate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wo stations are waiting, coll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um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for idle, then 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se if medium id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en for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llision detected, jam then ceas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jam, wait random time then start ag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nary exponential back o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se wait min idle time - give others nodes a ch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ributed fairness, 51.2us for 10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304920"/>
            <a:ext cx="2743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SMA/CD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68280" y="6248520"/>
            <a:ext cx="855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must be long enough to detect collision during transmiss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sion Re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transmit up to N attempts, e.g.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collision, must send jam signal, random backoff and re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m signal == 512 bits (64 bytes), to ensure the end nodes hear the coll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thernet minimum frame is 64 bytes (46 dat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exponential algorith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1, 2, 4, 8 …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 slots, etc. where m=Min(10, nth retr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s can be lost due to collision, especially if network is heavi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network cards can saturate cable; only ~30% utilization under heavy transmission 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llision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s -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4000"/>
          </a:bodyPr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-185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efficient (lower overhead) than async for large blocks of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a block that requires 8 bytes of overhead (preamble, postamble, other bookkeeping) with 100 information characters, or 800 bi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ssion Efficiency = 800 / 800+64 = 92.6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sync with start/stop bit, 8 data bits:  800 / 800+200 = 80% effici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01040" indent="-154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cy goes up the larger our blocks are, assuming the overhead bytes stay the same.  Why not make our blocks even bigg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5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- Differen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ally, the same as regular Ethernet but fas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at least 4096 bit-time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? Propagation time is too short, and we want the transmission time longer than the propagation time to detect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ows many small frames to be transmitted consecutively up to a limit to avoid carrier extension on short 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- Physic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igabit Ethernet Alli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gigabit-ethernet.or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om, Bay Networks, Cisco, Compaq, Granite Systems, Intel, LSI Logic, Packet Engines, Sun Microsystems,UB Networks, VLSI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lling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ly low cos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y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emphasis on network applications driving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 (802.5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no data to transmit, forwards token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ata to transmit, “Holds” token temporar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s data frame, can send multiple frames up to some maximum nu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(s) make round trip and are absorbed by transmitting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light loads, some ineffici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der heavy loads, round rob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2590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290880" y="2936880"/>
            <a:ext cx="25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ds to 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sends to A and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ber Distributed Data Interface (Can also run over twisted pair at shorter distanc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Mb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N and MAN ap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MAC Protoc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 for 802.5 excep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token released as soon as transmission finish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rings for reli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data frames from multiple senders to be on the ring at once, higher uti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– Multiple 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523880" y="2817720"/>
            <a:ext cx="6243840" cy="404028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89080" y="1336680"/>
            <a:ext cx="8321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 us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nter-rota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ings in which data flows in opposite direction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case of fiber or station failure, remaining sta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oop ba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route data through spare r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stations automatically configure loop back by monitoring data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3200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DDI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Gener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TM / Gigabit Eth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ansmission Effici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05-15" descr=""/>
          <p:cNvPicPr/>
          <p:nvPr/>
        </p:nvPicPr>
        <p:blipFill>
          <a:blip r:embed="rId1"/>
          <a:stretch/>
        </p:blipFill>
        <p:spPr>
          <a:xfrm>
            <a:off x="609480" y="1471680"/>
            <a:ext cx="777240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rtual circu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s of ATM L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way to ATM WAN, acts as ro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LAN encapsulation (LANE server or edge switch) if carrying ethernet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s ethernet address to Virtual Circuit identifier, broad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ATM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ATM switch or local network of ATM switc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group A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d systems connected directly to ATM swit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replace ethernet cards, ATM operates at data link lay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x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 ATM 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LAN HU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592640" y="304920"/>
            <a:ext cx="636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at Dallas Cowboys (www.dallascowboys.co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dallas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8915400" cy="56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2046240" y="162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reuters" descr=""/>
          <p:cNvPicPr/>
          <p:nvPr/>
        </p:nvPicPr>
        <p:blipFill>
          <a:blip r:embed="rId1"/>
          <a:stretch/>
        </p:blipFill>
        <p:spPr>
          <a:xfrm>
            <a:off x="2252520" y="1674720"/>
            <a:ext cx="4640400" cy="3508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133080" y="304920"/>
            <a:ext cx="329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M inside Reuters N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TM Foru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ndards body for AT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66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6633"/>
                </a:solidFill>
                <a:latin typeface="Times New Roman"/>
              </a:rPr>
              <a:t>http://www.atmforum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&amp;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u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SI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or more stations using same MAC protocol, together with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cess poin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s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some radius (~200 ft) from the access 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ears as single logic LAN to Data Lin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- Physic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-22860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CSMA/CD, uses CSMA/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ier Sense Multiple Access, Collision Avoid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collision detection, aims at avoiding collisions in the first pl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ven with collision detection, if no collision is sensed one could still occur at the recei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, C send to B but no direct signal between A-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523880" y="4724280"/>
            <a:ext cx="6257880" cy="20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a is idle for time DIFS (Distributed Inter Frame Space) then allowed to trans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media is bus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it until media is free for time D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wait an ADDITIONAL random backoff time before sending instead of immediately as in 802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might get a collision, but no detection for one – instead the CRC will (hopefully) f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 an ACK back if data correctly recei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s to send ACK due to lack of collision det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ender doesn’t receive ACK in time period, res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t Stuffing with HDL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limit frame at both ends with 0111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 stuff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ender wants to send six 1’s as data then it really sends five 1’s and then a 0, followed by a 1:  1111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needs logic to check the next bit after 5 bits are received.  If it is 0, then the 0 is deleted and the next bit is re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receiver reads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th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ransparenc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802.11 Media Acc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supports a way to reserve channel access, avoids hidden station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ends short Request To Send (R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r sends short Clear To Send (CTS) with permission to the Se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other stations also hear the CTS, and have to withhold sending until transmission is 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er send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ipient sends ACK if success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 stations also hear the ACK, can now issue their own 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ght have collisions with RTS or CTS but not with Data or ACK. If collisions, stations requesting to send will not get a CTS and will have to wait random time to re-submit the 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rame Ident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section on LAN technology described techniques for providing connectivity between compu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to devise technique for delivering message through LAN medium to single, specific destination comput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computer uses a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identify the intended destination of a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ing computer also identifi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data carried in the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ecifying a Destin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sent across a shared network reaches all attached stations - for all LAN topolog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the switched technology though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 hardware detects delivery of frame and extracts frame from mediu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 ... most applications want data to be delivered to one specific application on another computer - not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u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ardware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network technologies have a hardware addressing scheme that identifies stations on the networ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station is assigned a numeric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ardware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hysical addres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der includes hardware address in each transmitted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station identified in frame receives copy of fram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LAN technologies include sender's hardware address in frame, 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Hardware and Packet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ittle detail about organization of LAN hardware and comput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6781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-152280"/>
            <a:ext cx="87631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N Hardware and Packet Filte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 interface handles all details of frame transmission and recep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s hardware addresses, error detection codes, etc. to outgo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DMA to copy frame data directly from ma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beys access rules (e.g., CSMA/CD) when transmitt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error detection codes on incom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use DMA to copy data directly into main memo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 destination address on incoming fr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destination address on incoming frame matches the local station's address, a copy of the frame is passed to the attached compu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ddressed to the local computer are ignored and don't affect the local computer in any 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roadcas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99840"/>
            <a:ext cx="8915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applications wan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ssages to all stations on the L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ed communication channel can make broadcast efficient - message is delivered to all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roadcast addres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d to identify broadcast messages, which are captured by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ion passes data up if the address on the message matches its own addres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he broad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lt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f some computers on a LAN want to broadcast for their app, but others don’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ose that don’t are stuck processing a bunch of broadcast data they don’t care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data is not filtered, it is passed up the networking layer st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ulticas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t up a multicast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address passes to the network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e can then choose to pass data up if the frame’s address matches the station’s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roadcast addres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lticast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Address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ch NIC has 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AC address, assigned by IEEE in its R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8-bit integer, 6 unsigned char by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adcast address:  FF FF FF FF FF 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address: 01 XX XX XX XX X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cast address the rest, e.g.: 00 02 B3 9F 3A 1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3 bytes are manufacturer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: 00 02 B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: 08 00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Com Europe: 00 50 9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e http://standards.ieee.org/db/oui/ for m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format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2.0 (Xerox, U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EEE 802.3 (Novell / ISO / Un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the two sub-layers for LLC (logical link control) and MA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-1522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yte Stuff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8120" y="4240080"/>
            <a:ext cx="853452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68120" y="42400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950160" y="4240080"/>
            <a:ext cx="144756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692360" y="4240080"/>
            <a:ext cx="152388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397720" y="42400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3809880"/>
            <a:ext cx="225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P packet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79920" y="5089680"/>
            <a:ext cx="92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g   Address   Control                         Message                       CRC-16     Fl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 1 byte      1 byte                   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2 bytes    1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84320" y="2030400"/>
            <a:ext cx="85341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84320" y="2030400"/>
            <a:ext cx="7617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413920" y="2030400"/>
            <a:ext cx="7617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444120" y="1600200"/>
            <a:ext cx="230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LIP packet lay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60480" y="2879640"/>
            <a:ext cx="9244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Message                                                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byte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1 by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16320" y="5943600"/>
            <a:ext cx="689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Escape Character to avoid Transparency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on the frame field formats l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435040" y="879480"/>
            <a:ext cx="412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problem at the Byt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04920" y="4952880"/>
            <a:ext cx="8534160" cy="76212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4952880"/>
            <a:ext cx="121896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20120" y="4952880"/>
            <a:ext cx="152388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0520" y="5878440"/>
            <a:ext cx="8836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     Source   Length   LLC        Type        Message            CR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         address   2 by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6 bytes   2 bytes    variable              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38-1492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971800" y="49528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4952880"/>
            <a:ext cx="762120" cy="76212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73680" y="4495680"/>
            <a:ext cx="522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EEE 802.3, Min length=64, Max=151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4440" y="1700280"/>
            <a:ext cx="8534520" cy="761760"/>
          </a:xfrm>
          <a:prstGeom prst="rect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44440" y="1700280"/>
            <a:ext cx="1523880" cy="76176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559640" y="1700280"/>
            <a:ext cx="1523880" cy="761760"/>
          </a:xfrm>
          <a:prstGeom prst="rect">
            <a:avLst/>
          </a:prstGeom>
          <a:solidFill>
            <a:srgbClr val="00000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3680" y="1270080"/>
            <a:ext cx="608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ernet 2 Format - Min length=64, Max=1518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39320" y="2625840"/>
            <a:ext cx="885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ination         Source     Type                      Message                      CRC-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ress             address     2 byte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vari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4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6 by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46-1500 by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292560" y="1700280"/>
            <a:ext cx="761760" cy="761760"/>
          </a:xfrm>
          <a:prstGeom prst="rect">
            <a:avLst/>
          </a:prstGeom>
          <a:solidFill>
            <a:srgbClr val="969696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17440" y="3657600"/>
            <a:ext cx="8814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 indicates higher level protocol or control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P = 0x0800, AppleTalk over Eth: 0x809B  ARP = 0x0806, RARP=0x803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Frame Forma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an ethernet driver tell the difference between the two frame types in a heterogenous network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frame formats don’t overlap (at least not for most typ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 Len &gt;= 46 &amp;&amp; &lt;= 1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thernet IP Type == 0x800, 2048 in deci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hings to No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 2 format didn’t specify the length of the 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do we know how large the frame 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ipient has to read in all the data and then compute that the last 4 bytes are CRC, stuff in between Type and CRC is the paylo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802.3 a portion of the LLC and Length fields are called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NA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SubNetwork Attachment Poin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TU – Maximum Transmission Uni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said that Ethernet has a maximum frame size of 1518 bytes (less for the data, depending on Ethernet 2 vs. 802.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mit on size of frame transmitted at data link lay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ee MTU on UNIX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stat -i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2: 1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02.3: 149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PPP: 1500 (576 better for high-latency mode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the Network Layer has a bigger packet than MTU, it must be fragmen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Headers and Trail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th formats have an 8 byte preamble used for synchronization (alternating 1’s and 0’s, makes a regular square wa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C cod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computed CRC &lt;&gt; packet’s CRC, the packet is thrown awa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y on higher level protocols for data integ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retries, ACKs, or NAKs, so-called “best effor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hernet is a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it easy and cheap thoug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does/doesn’t ethernet CRC guarantee yo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thernet Packe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es CRC catch all bit error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 most errors caugh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e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you guarantee your packet will arriv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! Collision, congestion, No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going through 10 routers or bridges, can you guarantee reliabilit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itely no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etwork monit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``network sniffer''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used to examine the performance of or debug a network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port statistics such as capacity utilization, distribution of frame size, collision rate or token circulation ti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record and display specific frames, to understand and debug packet transmissions and exchang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work Analyz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idea is a computer with a network interface that receives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fram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imes calle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miscuous mo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y desktop computers have interface that can be configured for promiscuous mo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d with software, computer can exam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rame on LA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 across a LAN i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uaranteed to be private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receives and displays (but does not respond to) frames on the L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’ll have a homework assignment later using a network analy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ror Det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itional bits added by transmitter for error detection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parity bit is such that character has even (even parity) or odd (odd parity) number of 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 number of bit errors goes undetec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ynomial Che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lynomial checking adds 1 or more characters to the end of the message based on a mathematical algorith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su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 byte is added to the end of the message.  It is obtained by summing the message values,and dividing by 255. The remainder is the checksum. (95% effectiv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 CRC (Cyclic Redundancy Check), 8, 16, 24 or 32 bits are added, computed by calculating a remainder to a division problem. (99.969% with 8-bit, 99.99% with 16 bit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e book for more details on implementing CR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7632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orward error corre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uses codes containing sufficient redundancy to prevent errors by detecting and correcting them at the receiving end without retransmission of the original mess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mming co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gelbarger code (corrects up to 6 consecutive bit erro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se-Chaudhuri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rick Mock</cp:lastModifiedBy>
  <dcterms:modified xsi:type="dcterms:W3CDTF">2001-10-16T08:07:27Z</dcterms:modified>
  <cp:revision>39</cp:revision>
  <dc:subject/>
  <dc:title>PowerPoint Presentation</dc:title>
</cp:coreProperties>
</file>