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</p:sldIdLst>
  <p:sldSz cx="9144000" cy="6858000"/>
  <p:notesSz cx="9294813" cy="12344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C71D-732C-4870-90C3-26DF84DBF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763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02320"/>
            <a:ext cx="8763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5641-8AAB-49DF-A524-C199A77CA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27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8880" y="1294920"/>
            <a:ext cx="427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02320"/>
            <a:ext cx="427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8880" y="3802320"/>
            <a:ext cx="427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CCF4-9BA5-4086-984C-B075AB9FE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282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1400" y="1294920"/>
            <a:ext cx="282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4200" y="1294920"/>
            <a:ext cx="282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02320"/>
            <a:ext cx="282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1400" y="3802320"/>
            <a:ext cx="282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4200" y="3802320"/>
            <a:ext cx="282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B7E2-C6E2-44D9-88A4-96CC49F68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29492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AEAA-FACE-4EC8-9FEE-B849595A6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CD46-D2CB-4FFB-8F5C-C8A0C7EB4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27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8880" y="1294920"/>
            <a:ext cx="427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F12B-7E4D-47D4-B5E7-2D7137F8B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978C-CF1D-4603-A41D-5454174B1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E440-EA6E-4BBD-A0F3-B407C5444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27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8880" y="1294920"/>
            <a:ext cx="427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02320"/>
            <a:ext cx="427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A198-541F-4E35-BB72-CF838BCB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27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8880" y="1294920"/>
            <a:ext cx="427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8880" y="3802320"/>
            <a:ext cx="427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795F-ED54-4B21-ABEC-33F72FACE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27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8880" y="1294920"/>
            <a:ext cx="427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02320"/>
            <a:ext cx="8763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9113-7B5A-4547-9915-F4FFAF52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29492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FCE1C-F5A8-49BF-84D8-1850BFD6B3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4.wmf"/><Relationship Id="rId12" Type="http://schemas.openxmlformats.org/officeDocument/2006/relationships/image" Target="../media/image5.wmf"/><Relationship Id="rId13" Type="http://schemas.openxmlformats.org/officeDocument/2006/relationships/image" Target="../media/image4.wmf"/><Relationship Id="rId14" Type="http://schemas.openxmlformats.org/officeDocument/2006/relationships/image" Target="../media/image5.wmf"/><Relationship Id="rId15" Type="http://schemas.openxmlformats.org/officeDocument/2006/relationships/image" Target="../media/image4.wmf"/><Relationship Id="rId16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4.wmf"/><Relationship Id="rId12" Type="http://schemas.openxmlformats.org/officeDocument/2006/relationships/image" Target="../media/image5.wmf"/><Relationship Id="rId13" Type="http://schemas.openxmlformats.org/officeDocument/2006/relationships/image" Target="../media/image4.wmf"/><Relationship Id="rId14" Type="http://schemas.openxmlformats.org/officeDocument/2006/relationships/image" Target="../media/image5.wmf"/><Relationship Id="rId15" Type="http://schemas.openxmlformats.org/officeDocument/2006/relationships/image" Target="../media/image4.wmf"/><Relationship Id="rId16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4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4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port Layer: TCP/UD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pter 24, 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DP checks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45600" y="2347920"/>
            <a:ext cx="4124520" cy="36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end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at segment contents as sequence of 16-bit integ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sum: addition (1’s complement sum) of segment cont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er puts checksum value into UDP checksum 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47960" y="2552400"/>
            <a:ext cx="4057560" cy="32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Receiv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 checksum of received seg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eck if computed checksum equals checksum field val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- error det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ss data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ss to app with war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ES - no error detecte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95160" y="1457280"/>
            <a:ext cx="792504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Goal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tect “errors” (e.g., flipped bits) in transmitted seg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nection Oriented Transport Protocol Mechanis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erties of connection-oriented Transport Protoco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nection-Oriented Transport via Reliable Network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port Layer Services like TCP are complicated – to start, let’s first assume we are working with a reliable network layer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IP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IP is unrel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sues in a Simple Transprot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we have a reliable network layer, then the transport layer must consid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res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407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led a socket in TCP/U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rt represents a particular transport service (TS), e.g. HTTP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 protocol iden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an internet, a global internet address (IP Addre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well-known address or lookup via name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e users employ same transport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identified by port number or service access point (SA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ribed previ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ow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ifficult than flow control at the data link layer – data is likely traveling across many networks, not one network.  Some potential 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er transmission delay between transport entities compared with actual transmission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ay in communication of flow control inf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 transmission de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icult to use timeou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ceiving user cannot keep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ceiving transport entity cannot keep u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either happens, the results is a buffer that can get full and eventually los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 of Frame Transmi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3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  <p:sp>
        <p:nvSpPr>
          <p:cNvPr id="784" name=""/>
          <p:cNvSpPr/>
          <p:nvPr/>
        </p:nvSpPr>
        <p:spPr>
          <a:xfrm>
            <a:off x="1747080" y="1143000"/>
            <a:ext cx="515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gram for Frame/Packet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135800" y="6172200"/>
            <a:ext cx="63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use this model to discuss flow control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ping with Flow Control Requirements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not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gments that overflow are discar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ing transport entity will fail to get ACK and will retrans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us further adding to incoming data and could exacerbate the flow control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use further segments from network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ums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xed connections are controlled on aggregate f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ping with Flow Control Requirements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protocol:  Stop-and-Wa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er must wait for recipient to send ACK before sending the next pac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very efficient usage of the network, only one outstanding message can be in transit at a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s well on reliable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ilure to receive ACK is taken as flow control ind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not work well on unreliable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not distinguish between lost segment and flow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port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pose of transport layer servic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xing/demultiplex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data trans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gestion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nection-less transport: UD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nection-oriented transport: TC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iable trans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nection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ping with Flow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dit-Based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dit = How much data sender can trans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iding window idea, sender can send a number of frames up to the window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eiver sends single ACK that acknowledges all previous fra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ndow size varies based on credit avail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eiver can control credit of the se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92120" indent="-198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acknowledgement, receiver could change the window s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ter network usage, allows outstanding messages to be in transit than Stop-And-Wa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effective on unreliable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92120" indent="-198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ouples flow control from 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y ACK without granting credit and vice ver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octet has sequence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ransport segment has a sequence number, acknowledgement number and window size in h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liding Window Enhanc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r can acknowledge frames without permitting further transmission (Receive Not Ready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full duplex two-way communications, we need two windows: one for transmit and one for rece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ggybacking – if sending data and acknowledgement frame, combine toge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efficient than stop-and-wait since many frames may be in the pip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Sliding Wind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5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  <p:sp>
        <p:nvSpPr>
          <p:cNvPr id="796" name=""/>
          <p:cNvSpPr/>
          <p:nvPr/>
        </p:nvSpPr>
        <p:spPr>
          <a:xfrm>
            <a:off x="5485680" y="4343400"/>
            <a:ext cx="35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R N=Receive Ready on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3200400" y="1219320"/>
            <a:ext cx="260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ed Window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 of Header Fiel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credit-based window 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sending, Sequence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K includes AN=i (Acknowledgement Number), W=j (Window Siz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dit Allocation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1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  <p:sp>
        <p:nvSpPr>
          <p:cNvPr id="802" name=""/>
          <p:cNvSpPr/>
          <p:nvPr/>
        </p:nvSpPr>
        <p:spPr>
          <a:xfrm>
            <a:off x="2510640" y="6400800"/>
            <a:ext cx="29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 octets per se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2662560" y="1219320"/>
            <a:ext cx="31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, B initially “synche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ablishment and Term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n with a reliable network service, both ends need to “set up” the conne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 each end to know the other exists and is list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gotiation of optional paramet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um Segment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um Window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ffer space alloc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ry in connection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nection State Diagram – Reliable Network Serv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7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  <p:sp>
        <p:nvSpPr>
          <p:cNvPr id="808" name=""/>
          <p:cNvSpPr/>
          <p:nvPr/>
        </p:nvSpPr>
        <p:spPr>
          <a:xfrm>
            <a:off x="3048120" y="1447920"/>
            <a:ext cx="1371600" cy="685800"/>
          </a:xfrm>
          <a:prstGeom prst="rect">
            <a:avLst/>
          </a:pr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7086600" y="1600200"/>
            <a:ext cx="1371600" cy="685800"/>
          </a:xfrm>
          <a:prstGeom prst="rect">
            <a:avLst/>
          </a:pr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7010280" y="2895480"/>
            <a:ext cx="16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N=Syn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=Fin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nection Establish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2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ting up the conn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f a SYN received while not in the Listen sta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rm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nection can be terminated by sending F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ceful term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_WAIT state and FIN_WAIT must accept incoming data until FIN recei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sures both sides have received all outstanding data and that both sides agree to connection termination before actual term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port services and protoc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37760" y="1399680"/>
            <a:ext cx="4086360" cy="511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ogical communic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application processes running on different h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 protocols run in end systems via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ransport vs network layer servi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layer: data transfer between end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 layer: data transfer between process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ies on, enhances, network layer servi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788160" y="2019240"/>
            <a:ext cx="1798560" cy="1674720"/>
          </a:xfrm>
          <a:custGeom>
            <a:avLst/>
            <a:gdLst/>
            <a:ahLst/>
            <a:rect l="l" t="t" r="r" b="b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908600" y="1876320"/>
            <a:ext cx="1866960" cy="1589040"/>
          </a:xfrm>
          <a:custGeom>
            <a:avLst/>
            <a:gdLst/>
            <a:ahLst/>
            <a:rect l="l" t="t" r="r" b="b"/>
            <a:pathLst>
              <a:path w="1340" h="1191">
                <a:moveTo>
                  <a:pt x="550" y="42"/>
                </a:moveTo>
                <a:cubicBezTo>
                  <a:pt x="437" y="4"/>
                  <a:pt x="164" y="0"/>
                  <a:pt x="82" y="60"/>
                </a:cubicBezTo>
                <a:cubicBezTo>
                  <a:pt x="0" y="120"/>
                  <a:pt x="67" y="292"/>
                  <a:pt x="58" y="402"/>
                </a:cubicBezTo>
                <a:cubicBezTo>
                  <a:pt x="49" y="512"/>
                  <a:pt x="19" y="642"/>
                  <a:pt x="28" y="720"/>
                </a:cubicBezTo>
                <a:cubicBezTo>
                  <a:pt x="37" y="798"/>
                  <a:pt x="27" y="844"/>
                  <a:pt x="112" y="870"/>
                </a:cubicBezTo>
                <a:cubicBezTo>
                  <a:pt x="197" y="896"/>
                  <a:pt x="450" y="833"/>
                  <a:pt x="538" y="876"/>
                </a:cubicBezTo>
                <a:cubicBezTo>
                  <a:pt x="626" y="919"/>
                  <a:pt x="524" y="1091"/>
                  <a:pt x="640" y="1128"/>
                </a:cubicBezTo>
                <a:cubicBezTo>
                  <a:pt x="756" y="1165"/>
                  <a:pt x="1128" y="1191"/>
                  <a:pt x="1234" y="1098"/>
                </a:cubicBezTo>
                <a:cubicBezTo>
                  <a:pt x="1340" y="1005"/>
                  <a:pt x="1281" y="696"/>
                  <a:pt x="1276" y="570"/>
                </a:cubicBezTo>
                <a:cubicBezTo>
                  <a:pt x="1271" y="444"/>
                  <a:pt x="1290" y="389"/>
                  <a:pt x="1204" y="342"/>
                </a:cubicBezTo>
                <a:cubicBezTo>
                  <a:pt x="1118" y="295"/>
                  <a:pt x="868" y="338"/>
                  <a:pt x="760" y="288"/>
                </a:cubicBezTo>
                <a:cubicBezTo>
                  <a:pt x="652" y="238"/>
                  <a:pt x="663" y="80"/>
                  <a:pt x="550" y="42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276880" y="3327480"/>
            <a:ext cx="2975040" cy="2219400"/>
          </a:xfrm>
          <a:custGeom>
            <a:avLst/>
            <a:gdLst/>
            <a:ahLst/>
            <a:rect l="l" t="t" r="r" b="b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5025960" y="2011320"/>
            <a:ext cx="732960" cy="318960"/>
            <a:chOff x="5025960" y="2011320"/>
            <a:chExt cx="732960" cy="31896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5025960" y="2011320"/>
              <a:ext cx="41616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2"/>
            <a:stretch/>
          </p:blipFill>
          <p:spPr>
            <a:xfrm>
              <a:off x="5479560" y="2129400"/>
              <a:ext cx="279360" cy="18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 flipV="1">
              <a:off x="5432400" y="2252880"/>
              <a:ext cx="11412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5025960" y="2606760"/>
            <a:ext cx="732960" cy="318960"/>
            <a:chOff x="5025960" y="2606760"/>
            <a:chExt cx="732960" cy="318960"/>
          </a:xfrm>
        </p:grpSpPr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5025960" y="2606760"/>
              <a:ext cx="41616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4"/>
            <a:stretch/>
          </p:blipFill>
          <p:spPr>
            <a:xfrm>
              <a:off x="5479560" y="2724840"/>
              <a:ext cx="279360" cy="18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 flipV="1">
              <a:off x="5432400" y="2848320"/>
              <a:ext cx="11412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5402160" y="2394000"/>
            <a:ext cx="69480" cy="214200"/>
            <a:chOff x="5402160" y="2394000"/>
            <a:chExt cx="69480" cy="214200"/>
          </a:xfrm>
        </p:grpSpPr>
        <p:sp>
          <p:nvSpPr>
            <p:cNvPr id="59" name=""/>
            <p:cNvSpPr/>
            <p:nvPr/>
          </p:nvSpPr>
          <p:spPr>
            <a:xfrm>
              <a:off x="5402160" y="2394000"/>
              <a:ext cx="64080" cy="60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04680" y="2471040"/>
              <a:ext cx="64080" cy="60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7560" y="2548080"/>
              <a:ext cx="64080" cy="60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5872320" y="2897280"/>
            <a:ext cx="209520" cy="394920"/>
            <a:chOff x="5872320" y="2897280"/>
            <a:chExt cx="209520" cy="394920"/>
          </a:xfrm>
        </p:grpSpPr>
        <p:sp>
          <p:nvSpPr>
            <p:cNvPr id="63" name=""/>
            <p:cNvSpPr/>
            <p:nvPr/>
          </p:nvSpPr>
          <p:spPr>
            <a:xfrm>
              <a:off x="5872320" y="320112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978520" y="2899800"/>
              <a:ext cx="96120" cy="303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73400" y="2985840"/>
              <a:ext cx="132480" cy="303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872320" y="289728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81840" y="290340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6005880" y="3201120"/>
              <a:ext cx="7524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890320" y="3025800"/>
              <a:ext cx="87840" cy="174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02920" y="3078720"/>
              <a:ext cx="6660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6108840" y="3050640"/>
            <a:ext cx="233280" cy="81000"/>
            <a:chOff x="6108840" y="3050640"/>
            <a:chExt cx="233280" cy="81000"/>
          </a:xfrm>
        </p:grpSpPr>
        <p:sp>
          <p:nvSpPr>
            <p:cNvPr id="72" name=""/>
            <p:cNvSpPr/>
            <p:nvPr/>
          </p:nvSpPr>
          <p:spPr>
            <a:xfrm rot="16200000">
              <a:off x="6104160" y="3061440"/>
              <a:ext cx="74520" cy="65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rot="16200000">
              <a:off x="6188040" y="3058200"/>
              <a:ext cx="74520" cy="65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rot="16200000">
              <a:off x="6271920" y="3054960"/>
              <a:ext cx="74520" cy="65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6008760" y="2805120"/>
            <a:ext cx="4953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12000" y="2801880"/>
            <a:ext cx="1440" cy="9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507000" y="2800440"/>
            <a:ext cx="1800" cy="8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08520" y="2265480"/>
            <a:ext cx="289080" cy="26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5721480" y="2550960"/>
            <a:ext cx="276120" cy="330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6248520" y="2637000"/>
            <a:ext cx="1440" cy="1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6367320" y="2874960"/>
            <a:ext cx="209520" cy="394920"/>
            <a:chOff x="6367320" y="2874960"/>
            <a:chExt cx="209520" cy="394920"/>
          </a:xfrm>
        </p:grpSpPr>
        <p:sp>
          <p:nvSpPr>
            <p:cNvPr id="82" name=""/>
            <p:cNvSpPr/>
            <p:nvPr/>
          </p:nvSpPr>
          <p:spPr>
            <a:xfrm>
              <a:off x="6367320" y="317880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473520" y="2877480"/>
              <a:ext cx="96120" cy="303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368400" y="2963520"/>
              <a:ext cx="132480" cy="303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67320" y="287496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576840" y="288108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6500880" y="3178800"/>
              <a:ext cx="7524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385320" y="3003480"/>
              <a:ext cx="87840" cy="174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397920" y="3056400"/>
              <a:ext cx="6660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5410080" y="3494160"/>
            <a:ext cx="479160" cy="925200"/>
            <a:chOff x="5410080" y="3494160"/>
            <a:chExt cx="479160" cy="925200"/>
          </a:xfrm>
        </p:grpSpPr>
        <p:pic>
          <p:nvPicPr>
            <p:cNvPr id="91" name="" descr=""/>
            <p:cNvPicPr/>
            <p:nvPr/>
          </p:nvPicPr>
          <p:blipFill>
            <a:blip r:embed="rId5"/>
            <a:stretch/>
          </p:blipFill>
          <p:spPr>
            <a:xfrm>
              <a:off x="5410080" y="3494160"/>
              <a:ext cx="41652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 flipV="1">
              <a:off x="5816880" y="3740760"/>
              <a:ext cx="7236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6"/>
            <a:stretch/>
          </p:blipFill>
          <p:spPr>
            <a:xfrm>
              <a:off x="5410080" y="4088880"/>
              <a:ext cx="41652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 flipV="1">
              <a:off x="5816880" y="4339080"/>
              <a:ext cx="7236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5535360" y="3835440"/>
              <a:ext cx="70560" cy="222480"/>
              <a:chOff x="5535360" y="3835440"/>
              <a:chExt cx="70560" cy="222480"/>
            </a:xfrm>
          </p:grpSpPr>
          <p:sp>
            <p:nvSpPr>
              <p:cNvPr id="96" name=""/>
              <p:cNvSpPr/>
              <p:nvPr/>
            </p:nvSpPr>
            <p:spPr>
              <a:xfrm>
                <a:off x="5535360" y="3835440"/>
                <a:ext cx="65160" cy="6264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537880" y="3915360"/>
                <a:ext cx="65160" cy="622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540760" y="3995640"/>
                <a:ext cx="65160" cy="622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5883840" y="3737880"/>
              <a:ext cx="0" cy="60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0" name="" descr=""/>
          <p:cNvPicPr/>
          <p:nvPr/>
        </p:nvPicPr>
        <p:blipFill>
          <a:blip r:embed="rId7"/>
          <a:stretch/>
        </p:blipFill>
        <p:spPr>
          <a:xfrm>
            <a:off x="6278400" y="4503600"/>
            <a:ext cx="417600" cy="3319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8"/>
          <a:stretch/>
        </p:blipFill>
        <p:spPr>
          <a:xfrm>
            <a:off x="5664240" y="4492800"/>
            <a:ext cx="415800" cy="3301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 rot="16200000">
            <a:off x="6080760" y="4596480"/>
            <a:ext cx="63360" cy="651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6165720" y="4593960"/>
            <a:ext cx="63720" cy="66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6200000">
            <a:off x="6243480" y="4598640"/>
            <a:ext cx="61920" cy="651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6532560" y="4449600"/>
            <a:ext cx="1440" cy="60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5908680" y="4438800"/>
            <a:ext cx="0" cy="63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5910120" y="4444920"/>
            <a:ext cx="62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5889600" y="4070520"/>
            <a:ext cx="9360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91160" y="4116240"/>
            <a:ext cx="303480" cy="38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7286760" y="4113360"/>
            <a:ext cx="279360" cy="392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9"/>
          <a:stretch/>
        </p:blipFill>
        <p:spPr>
          <a:xfrm>
            <a:off x="7464600" y="3665520"/>
            <a:ext cx="203040" cy="2412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10"/>
          <a:stretch/>
        </p:blipFill>
        <p:spPr>
          <a:xfrm>
            <a:off x="6127920" y="3746520"/>
            <a:ext cx="203040" cy="23976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6475320" y="4943520"/>
            <a:ext cx="406080" cy="426960"/>
            <a:chOff x="6475320" y="4943520"/>
            <a:chExt cx="406080" cy="426960"/>
          </a:xfrm>
        </p:grpSpPr>
        <p:pic>
          <p:nvPicPr>
            <p:cNvPr id="114" name="" descr=""/>
            <p:cNvPicPr/>
            <p:nvPr/>
          </p:nvPicPr>
          <p:blipFill>
            <a:blip r:embed="rId11"/>
            <a:stretch/>
          </p:blipFill>
          <p:spPr>
            <a:xfrm>
              <a:off x="6475320" y="4943520"/>
              <a:ext cx="37836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12"/>
            <a:stretch/>
          </p:blipFill>
          <p:spPr>
            <a:xfrm>
              <a:off x="6535080" y="505548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6" name=""/>
          <p:cNvGrpSpPr/>
          <p:nvPr/>
        </p:nvGrpSpPr>
        <p:grpSpPr>
          <a:xfrm>
            <a:off x="7253280" y="4975200"/>
            <a:ext cx="406080" cy="426960"/>
            <a:chOff x="7253280" y="4975200"/>
            <a:chExt cx="406080" cy="426960"/>
          </a:xfrm>
        </p:grpSpPr>
        <p:pic>
          <p:nvPicPr>
            <p:cNvPr id="117" name="" descr=""/>
            <p:cNvPicPr/>
            <p:nvPr/>
          </p:nvPicPr>
          <p:blipFill>
            <a:blip r:embed="rId13"/>
            <a:stretch/>
          </p:blipFill>
          <p:spPr>
            <a:xfrm>
              <a:off x="7253280" y="4975200"/>
              <a:ext cx="37836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14"/>
            <a:stretch/>
          </p:blipFill>
          <p:spPr>
            <a:xfrm>
              <a:off x="7313040" y="508716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" name=""/>
          <p:cNvGrpSpPr/>
          <p:nvPr/>
        </p:nvGrpSpPr>
        <p:grpSpPr>
          <a:xfrm>
            <a:off x="6838920" y="4691160"/>
            <a:ext cx="379440" cy="376200"/>
            <a:chOff x="6838920" y="4691160"/>
            <a:chExt cx="379440" cy="376200"/>
          </a:xfrm>
        </p:grpSpPr>
        <p:pic>
          <p:nvPicPr>
            <p:cNvPr id="120" name="" descr=""/>
            <p:cNvPicPr/>
            <p:nvPr/>
          </p:nvPicPr>
          <p:blipFill>
            <a:blip r:embed="rId15"/>
            <a:stretch/>
          </p:blipFill>
          <p:spPr>
            <a:xfrm>
              <a:off x="6838920" y="4691160"/>
              <a:ext cx="379440" cy="3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6949080" y="4823280"/>
              <a:ext cx="267480" cy="244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7145280" y="4594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866000" y="4017960"/>
            <a:ext cx="208080" cy="409680"/>
            <a:chOff x="7866000" y="4017960"/>
            <a:chExt cx="208080" cy="409680"/>
          </a:xfrm>
        </p:grpSpPr>
        <p:sp>
          <p:nvSpPr>
            <p:cNvPr id="124" name=""/>
            <p:cNvSpPr/>
            <p:nvPr/>
          </p:nvSpPr>
          <p:spPr>
            <a:xfrm>
              <a:off x="7866000" y="433296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971120" y="4020480"/>
              <a:ext cx="95400" cy="3146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867080" y="4109760"/>
              <a:ext cx="131760" cy="3150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866000" y="401796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074080" y="4024440"/>
              <a:ext cx="0" cy="3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7998840" y="4332960"/>
              <a:ext cx="7488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883640" y="4151160"/>
              <a:ext cx="87480" cy="1814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896240" y="4205880"/>
              <a:ext cx="6624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7853400" y="4462560"/>
            <a:ext cx="208080" cy="408960"/>
            <a:chOff x="7853400" y="4462560"/>
            <a:chExt cx="208080" cy="408960"/>
          </a:xfrm>
        </p:grpSpPr>
        <p:sp>
          <p:nvSpPr>
            <p:cNvPr id="133" name=""/>
            <p:cNvSpPr/>
            <p:nvPr/>
          </p:nvSpPr>
          <p:spPr>
            <a:xfrm>
              <a:off x="7853400" y="4777200"/>
              <a:ext cx="208080" cy="94320"/>
            </a:xfrm>
            <a:prstGeom prst="parallelogram">
              <a:avLst>
                <a:gd name="adj" fmla="val 84986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958520" y="4465080"/>
              <a:ext cx="95400" cy="3142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854480" y="4554360"/>
              <a:ext cx="131760" cy="314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853400" y="4462560"/>
              <a:ext cx="208080" cy="94320"/>
            </a:xfrm>
            <a:prstGeom prst="parallelogram">
              <a:avLst>
                <a:gd name="adj" fmla="val 84986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061480" y="4469040"/>
              <a:ext cx="0" cy="30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7986240" y="4777200"/>
              <a:ext cx="7488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871040" y="4595760"/>
              <a:ext cx="87480" cy="1810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883640" y="4650480"/>
              <a:ext cx="6624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 flipV="1">
            <a:off x="7785000" y="4086000"/>
            <a:ext cx="0" cy="61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781760" y="4695840"/>
            <a:ext cx="10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778880" y="421956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502320" y="2315880"/>
            <a:ext cx="459000" cy="20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437600" y="2300400"/>
            <a:ext cx="485640" cy="20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7956720" y="2637000"/>
            <a:ext cx="241200" cy="68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186680" y="2413080"/>
            <a:ext cx="0" cy="43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211880" y="3060720"/>
            <a:ext cx="53496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7671960" y="3525840"/>
            <a:ext cx="26676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7445520" y="2604960"/>
            <a:ext cx="560160" cy="38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7454520" y="2044800"/>
            <a:ext cx="351000" cy="255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8172360" y="2220840"/>
            <a:ext cx="201600" cy="17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5983200" y="2413080"/>
            <a:ext cx="501840" cy="232920"/>
            <a:chOff x="5983200" y="2413080"/>
            <a:chExt cx="501840" cy="232920"/>
          </a:xfrm>
        </p:grpSpPr>
        <p:sp>
          <p:nvSpPr>
            <p:cNvPr id="154" name=""/>
            <p:cNvSpPr/>
            <p:nvPr/>
          </p:nvSpPr>
          <p:spPr>
            <a:xfrm>
              <a:off x="5987160" y="2517120"/>
              <a:ext cx="4975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87160" y="25059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485040" y="25059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987160" y="250596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983200" y="2413080"/>
              <a:ext cx="4971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6102720" y="2445840"/>
              <a:ext cx="246240" cy="88200"/>
              <a:chOff x="6102720" y="2445840"/>
              <a:chExt cx="246240" cy="88200"/>
            </a:xfrm>
          </p:grpSpPr>
          <p:sp>
            <p:nvSpPr>
              <p:cNvPr id="160" name=""/>
              <p:cNvSpPr/>
              <p:nvPr/>
            </p:nvSpPr>
            <p:spPr>
              <a:xfrm flipV="1">
                <a:off x="6102720" y="24458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271560" y="25340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183720" y="24480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6102720" y="2445120"/>
              <a:ext cx="246240" cy="88200"/>
              <a:chOff x="6102720" y="2445120"/>
              <a:chExt cx="246240" cy="88200"/>
            </a:xfrm>
          </p:grpSpPr>
          <p:sp>
            <p:nvSpPr>
              <p:cNvPr id="164" name=""/>
              <p:cNvSpPr/>
              <p:nvPr/>
            </p:nvSpPr>
            <p:spPr>
              <a:xfrm>
                <a:off x="6102720" y="25315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271560" y="24451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6183720" y="24451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7" name=""/>
          <p:cNvGrpSpPr/>
          <p:nvPr/>
        </p:nvGrpSpPr>
        <p:grpSpPr>
          <a:xfrm>
            <a:off x="6935760" y="2184480"/>
            <a:ext cx="501840" cy="232920"/>
            <a:chOff x="6935760" y="2184480"/>
            <a:chExt cx="501840" cy="232920"/>
          </a:xfrm>
        </p:grpSpPr>
        <p:sp>
          <p:nvSpPr>
            <p:cNvPr id="168" name=""/>
            <p:cNvSpPr/>
            <p:nvPr/>
          </p:nvSpPr>
          <p:spPr>
            <a:xfrm>
              <a:off x="6939720" y="2288520"/>
              <a:ext cx="4975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939720" y="22773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437600" y="22773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939720" y="227736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935760" y="2184480"/>
              <a:ext cx="4971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7055280" y="2217240"/>
              <a:ext cx="246240" cy="88200"/>
              <a:chOff x="7055280" y="2217240"/>
              <a:chExt cx="246240" cy="88200"/>
            </a:xfrm>
          </p:grpSpPr>
          <p:sp>
            <p:nvSpPr>
              <p:cNvPr id="174" name=""/>
              <p:cNvSpPr/>
              <p:nvPr/>
            </p:nvSpPr>
            <p:spPr>
              <a:xfrm flipV="1">
                <a:off x="7055280" y="22172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224120" y="23054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136280" y="22194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7055280" y="2216520"/>
              <a:ext cx="246240" cy="88200"/>
              <a:chOff x="7055280" y="2216520"/>
              <a:chExt cx="246240" cy="88200"/>
            </a:xfrm>
          </p:grpSpPr>
          <p:sp>
            <p:nvSpPr>
              <p:cNvPr id="178" name=""/>
              <p:cNvSpPr/>
              <p:nvPr/>
            </p:nvSpPr>
            <p:spPr>
              <a:xfrm>
                <a:off x="7055280" y="23029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224120" y="22165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V="1">
                <a:off x="7136280" y="22165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1" name=""/>
          <p:cNvGrpSpPr/>
          <p:nvPr/>
        </p:nvGrpSpPr>
        <p:grpSpPr>
          <a:xfrm>
            <a:off x="6953400" y="2841480"/>
            <a:ext cx="501480" cy="233280"/>
            <a:chOff x="6953400" y="2841480"/>
            <a:chExt cx="501480" cy="233280"/>
          </a:xfrm>
        </p:grpSpPr>
        <p:sp>
          <p:nvSpPr>
            <p:cNvPr id="182" name=""/>
            <p:cNvSpPr/>
            <p:nvPr/>
          </p:nvSpPr>
          <p:spPr>
            <a:xfrm>
              <a:off x="6957360" y="2945520"/>
              <a:ext cx="497160" cy="1292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957360" y="293472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454880" y="293472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57360" y="2934720"/>
              <a:ext cx="49284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953400" y="2841480"/>
              <a:ext cx="49680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7072920" y="2874240"/>
              <a:ext cx="246240" cy="88560"/>
              <a:chOff x="7072920" y="2874240"/>
              <a:chExt cx="246240" cy="88560"/>
            </a:xfrm>
          </p:grpSpPr>
          <p:sp>
            <p:nvSpPr>
              <p:cNvPr id="188" name=""/>
              <p:cNvSpPr/>
              <p:nvPr/>
            </p:nvSpPr>
            <p:spPr>
              <a:xfrm flipV="1">
                <a:off x="7072920" y="28742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241760" y="29628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153920" y="287640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7072920" y="2873160"/>
              <a:ext cx="246240" cy="88560"/>
              <a:chOff x="7072920" y="2873160"/>
              <a:chExt cx="246240" cy="88560"/>
            </a:xfrm>
          </p:grpSpPr>
          <p:sp>
            <p:nvSpPr>
              <p:cNvPr id="192" name=""/>
              <p:cNvSpPr/>
              <p:nvPr/>
            </p:nvSpPr>
            <p:spPr>
              <a:xfrm>
                <a:off x="7072920" y="29599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241760" y="28731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V="1">
                <a:off x="7153920" y="287316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5" name=""/>
          <p:cNvGrpSpPr/>
          <p:nvPr/>
        </p:nvGrpSpPr>
        <p:grpSpPr>
          <a:xfrm>
            <a:off x="7923240" y="2392200"/>
            <a:ext cx="500040" cy="233280"/>
            <a:chOff x="7923240" y="2392200"/>
            <a:chExt cx="500040" cy="233280"/>
          </a:xfrm>
        </p:grpSpPr>
        <p:sp>
          <p:nvSpPr>
            <p:cNvPr id="196" name=""/>
            <p:cNvSpPr/>
            <p:nvPr/>
          </p:nvSpPr>
          <p:spPr>
            <a:xfrm>
              <a:off x="7927200" y="2496240"/>
              <a:ext cx="495720" cy="1292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927200" y="248544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423280" y="248544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927200" y="2485440"/>
              <a:ext cx="4914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923240" y="2392200"/>
              <a:ext cx="49536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1" name=""/>
            <p:cNvGrpSpPr/>
            <p:nvPr/>
          </p:nvGrpSpPr>
          <p:grpSpPr>
            <a:xfrm>
              <a:off x="8042400" y="2424960"/>
              <a:ext cx="245520" cy="88560"/>
              <a:chOff x="8042400" y="2424960"/>
              <a:chExt cx="245520" cy="88560"/>
            </a:xfrm>
          </p:grpSpPr>
          <p:sp>
            <p:nvSpPr>
              <p:cNvPr id="202" name=""/>
              <p:cNvSpPr/>
              <p:nvPr/>
            </p:nvSpPr>
            <p:spPr>
              <a:xfrm flipV="1">
                <a:off x="8042400" y="242496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210880" y="251352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123040" y="2427120"/>
                <a:ext cx="9108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8042400" y="2423880"/>
              <a:ext cx="245520" cy="88560"/>
              <a:chOff x="8042400" y="2423880"/>
              <a:chExt cx="245520" cy="88560"/>
            </a:xfrm>
          </p:grpSpPr>
          <p:sp>
            <p:nvSpPr>
              <p:cNvPr id="206" name=""/>
              <p:cNvSpPr/>
              <p:nvPr/>
            </p:nvSpPr>
            <p:spPr>
              <a:xfrm>
                <a:off x="8042400" y="251064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8210880" y="242388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8123040" y="2423880"/>
                <a:ext cx="9108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9" name=""/>
          <p:cNvGrpSpPr/>
          <p:nvPr/>
        </p:nvGrpSpPr>
        <p:grpSpPr>
          <a:xfrm>
            <a:off x="7729560" y="3289320"/>
            <a:ext cx="501480" cy="232920"/>
            <a:chOff x="7729560" y="3289320"/>
            <a:chExt cx="501480" cy="232920"/>
          </a:xfrm>
        </p:grpSpPr>
        <p:sp>
          <p:nvSpPr>
            <p:cNvPr id="210" name=""/>
            <p:cNvSpPr/>
            <p:nvPr/>
          </p:nvSpPr>
          <p:spPr>
            <a:xfrm>
              <a:off x="7733520" y="339336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733520" y="33822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231040" y="33822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733520" y="3382200"/>
              <a:ext cx="49284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729560" y="328932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7849080" y="3322080"/>
              <a:ext cx="246240" cy="88200"/>
              <a:chOff x="7849080" y="3322080"/>
              <a:chExt cx="246240" cy="88200"/>
            </a:xfrm>
          </p:grpSpPr>
          <p:sp>
            <p:nvSpPr>
              <p:cNvPr id="216" name=""/>
              <p:cNvSpPr/>
              <p:nvPr/>
            </p:nvSpPr>
            <p:spPr>
              <a:xfrm flipV="1">
                <a:off x="7849080" y="33220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017920" y="34102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930080" y="33242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7849080" y="3321360"/>
              <a:ext cx="246240" cy="88200"/>
              <a:chOff x="7849080" y="3321360"/>
              <a:chExt cx="246240" cy="88200"/>
            </a:xfrm>
          </p:grpSpPr>
          <p:sp>
            <p:nvSpPr>
              <p:cNvPr id="220" name=""/>
              <p:cNvSpPr/>
              <p:nvPr/>
            </p:nvSpPr>
            <p:spPr>
              <a:xfrm>
                <a:off x="7849080" y="34077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8017920" y="33213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V="1">
                <a:off x="7930080" y="332136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3" name=""/>
          <p:cNvGrpSpPr/>
          <p:nvPr/>
        </p:nvGrpSpPr>
        <p:grpSpPr>
          <a:xfrm>
            <a:off x="7396200" y="3873600"/>
            <a:ext cx="501480" cy="234360"/>
            <a:chOff x="7396200" y="3873600"/>
            <a:chExt cx="501480" cy="234360"/>
          </a:xfrm>
        </p:grpSpPr>
        <p:sp>
          <p:nvSpPr>
            <p:cNvPr id="224" name=""/>
            <p:cNvSpPr/>
            <p:nvPr/>
          </p:nvSpPr>
          <p:spPr>
            <a:xfrm>
              <a:off x="7400160" y="3978000"/>
              <a:ext cx="497160" cy="1299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400160" y="396720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897680" y="396720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400160" y="3967200"/>
              <a:ext cx="492840" cy="79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396200" y="3873600"/>
              <a:ext cx="496800" cy="1515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7515720" y="3906720"/>
              <a:ext cx="246240" cy="88920"/>
              <a:chOff x="7515720" y="3906720"/>
              <a:chExt cx="246240" cy="88920"/>
            </a:xfrm>
          </p:grpSpPr>
          <p:sp>
            <p:nvSpPr>
              <p:cNvPr id="230" name=""/>
              <p:cNvSpPr/>
              <p:nvPr/>
            </p:nvSpPr>
            <p:spPr>
              <a:xfrm flipV="1">
                <a:off x="7515720" y="39067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684560" y="39956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596720" y="390888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7515720" y="3905640"/>
              <a:ext cx="246240" cy="88920"/>
              <a:chOff x="7515720" y="3905640"/>
              <a:chExt cx="246240" cy="88920"/>
            </a:xfrm>
          </p:grpSpPr>
          <p:sp>
            <p:nvSpPr>
              <p:cNvPr id="234" name=""/>
              <p:cNvSpPr/>
              <p:nvPr/>
            </p:nvSpPr>
            <p:spPr>
              <a:xfrm>
                <a:off x="7515720" y="39927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84560" y="39056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7596720" y="390564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7" name=""/>
          <p:cNvGrpSpPr/>
          <p:nvPr/>
        </p:nvGrpSpPr>
        <p:grpSpPr>
          <a:xfrm>
            <a:off x="6786720" y="4362480"/>
            <a:ext cx="500040" cy="232920"/>
            <a:chOff x="6786720" y="4362480"/>
            <a:chExt cx="500040" cy="232920"/>
          </a:xfrm>
        </p:grpSpPr>
        <p:sp>
          <p:nvSpPr>
            <p:cNvPr id="238" name=""/>
            <p:cNvSpPr/>
            <p:nvPr/>
          </p:nvSpPr>
          <p:spPr>
            <a:xfrm>
              <a:off x="6790680" y="4466520"/>
              <a:ext cx="4957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790680" y="44553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286760" y="44553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790680" y="4455360"/>
              <a:ext cx="4914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786720" y="4362480"/>
              <a:ext cx="4953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6905880" y="4395240"/>
              <a:ext cx="245520" cy="88200"/>
              <a:chOff x="6905880" y="4395240"/>
              <a:chExt cx="245520" cy="88200"/>
            </a:xfrm>
          </p:grpSpPr>
          <p:sp>
            <p:nvSpPr>
              <p:cNvPr id="244" name=""/>
              <p:cNvSpPr/>
              <p:nvPr/>
            </p:nvSpPr>
            <p:spPr>
              <a:xfrm flipV="1">
                <a:off x="6905880" y="439524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074360" y="448344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986520" y="439740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6905880" y="4394520"/>
              <a:ext cx="245520" cy="88200"/>
              <a:chOff x="6905880" y="4394520"/>
              <a:chExt cx="245520" cy="88200"/>
            </a:xfrm>
          </p:grpSpPr>
          <p:sp>
            <p:nvSpPr>
              <p:cNvPr id="248" name=""/>
              <p:cNvSpPr/>
              <p:nvPr/>
            </p:nvSpPr>
            <p:spPr>
              <a:xfrm>
                <a:off x="6905880" y="448092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074360" y="439452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V="1">
                <a:off x="6986520" y="439452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1" name=""/>
          <p:cNvGrpSpPr/>
          <p:nvPr/>
        </p:nvGrpSpPr>
        <p:grpSpPr>
          <a:xfrm>
            <a:off x="5983200" y="3986280"/>
            <a:ext cx="501840" cy="232920"/>
            <a:chOff x="5983200" y="3986280"/>
            <a:chExt cx="501840" cy="232920"/>
          </a:xfrm>
        </p:grpSpPr>
        <p:sp>
          <p:nvSpPr>
            <p:cNvPr id="252" name=""/>
            <p:cNvSpPr/>
            <p:nvPr/>
          </p:nvSpPr>
          <p:spPr>
            <a:xfrm>
              <a:off x="5987160" y="4090320"/>
              <a:ext cx="4975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987160" y="40791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485040" y="40791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87160" y="407916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983200" y="3986280"/>
              <a:ext cx="4971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6102720" y="4019040"/>
              <a:ext cx="246240" cy="88200"/>
              <a:chOff x="6102720" y="4019040"/>
              <a:chExt cx="246240" cy="88200"/>
            </a:xfrm>
          </p:grpSpPr>
          <p:sp>
            <p:nvSpPr>
              <p:cNvPr id="258" name=""/>
              <p:cNvSpPr/>
              <p:nvPr/>
            </p:nvSpPr>
            <p:spPr>
              <a:xfrm flipV="1">
                <a:off x="6102720" y="40190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271560" y="41072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183720" y="40212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6102720" y="4018320"/>
              <a:ext cx="246240" cy="88200"/>
              <a:chOff x="6102720" y="4018320"/>
              <a:chExt cx="246240" cy="88200"/>
            </a:xfrm>
          </p:grpSpPr>
          <p:sp>
            <p:nvSpPr>
              <p:cNvPr id="262" name=""/>
              <p:cNvSpPr/>
              <p:nvPr/>
            </p:nvSpPr>
            <p:spPr>
              <a:xfrm>
                <a:off x="6102720" y="41047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6271560" y="40183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V="1">
                <a:off x="6183720" y="40183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5" name=""/>
          <p:cNvSpPr/>
          <p:nvPr/>
        </p:nvSpPr>
        <p:spPr>
          <a:xfrm flipV="1">
            <a:off x="6238800" y="4199040"/>
            <a:ext cx="1800" cy="24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4692600" y="1533600"/>
            <a:ext cx="814320" cy="1007640"/>
            <a:chOff x="4692600" y="1533600"/>
            <a:chExt cx="814320" cy="1007640"/>
          </a:xfrm>
        </p:grpSpPr>
        <p:sp>
          <p:nvSpPr>
            <p:cNvPr id="267" name=""/>
            <p:cNvSpPr/>
            <p:nvPr/>
          </p:nvSpPr>
          <p:spPr>
            <a:xfrm>
              <a:off x="4790880" y="1538280"/>
              <a:ext cx="676440" cy="77616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757400" y="1562040"/>
              <a:ext cx="690840" cy="800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62440" y="1738440"/>
              <a:ext cx="676080" cy="171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692600" y="1533600"/>
              <a:ext cx="81432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pplic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transpor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757400" y="190512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7120" y="204300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767120" y="2181240"/>
              <a:ext cx="6904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7816680" y="4419720"/>
            <a:ext cx="814320" cy="1007640"/>
            <a:chOff x="7816680" y="4419720"/>
            <a:chExt cx="814320" cy="1007640"/>
          </a:xfrm>
        </p:grpSpPr>
        <p:sp>
          <p:nvSpPr>
            <p:cNvPr id="275" name=""/>
            <p:cNvSpPr/>
            <p:nvPr/>
          </p:nvSpPr>
          <p:spPr>
            <a:xfrm>
              <a:off x="7914960" y="4424400"/>
              <a:ext cx="676440" cy="77616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881480" y="4448160"/>
              <a:ext cx="690840" cy="800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886520" y="4624560"/>
              <a:ext cx="676080" cy="171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816680" y="4419720"/>
              <a:ext cx="81432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pplic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transpor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881480" y="479124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891200" y="492912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891200" y="5067360"/>
              <a:ext cx="6904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7155000" y="3538440"/>
            <a:ext cx="814320" cy="703080"/>
            <a:chOff x="7155000" y="3538440"/>
            <a:chExt cx="814320" cy="703080"/>
          </a:xfrm>
        </p:grpSpPr>
        <p:sp>
          <p:nvSpPr>
            <p:cNvPr id="283" name=""/>
            <p:cNvSpPr/>
            <p:nvPr/>
          </p:nvSpPr>
          <p:spPr>
            <a:xfrm>
              <a:off x="7257960" y="3695400"/>
              <a:ext cx="676440" cy="48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215120" y="372888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155000" y="353844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210440" y="403344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219800" y="388116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7688160" y="2957400"/>
            <a:ext cx="814320" cy="703080"/>
            <a:chOff x="7688160" y="2957400"/>
            <a:chExt cx="814320" cy="703080"/>
          </a:xfrm>
        </p:grpSpPr>
        <p:sp>
          <p:nvSpPr>
            <p:cNvPr id="289" name=""/>
            <p:cNvSpPr/>
            <p:nvPr/>
          </p:nvSpPr>
          <p:spPr>
            <a:xfrm>
              <a:off x="7791120" y="3114360"/>
              <a:ext cx="676440" cy="48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748280" y="314784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688160" y="295740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743600" y="345240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752960" y="330012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6802560" y="2652840"/>
            <a:ext cx="814320" cy="703080"/>
            <a:chOff x="6802560" y="2652840"/>
            <a:chExt cx="814320" cy="703080"/>
          </a:xfrm>
        </p:grpSpPr>
        <p:sp>
          <p:nvSpPr>
            <p:cNvPr id="295" name=""/>
            <p:cNvSpPr/>
            <p:nvPr/>
          </p:nvSpPr>
          <p:spPr>
            <a:xfrm>
              <a:off x="6905520" y="2809800"/>
              <a:ext cx="676440" cy="48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862680" y="284328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802560" y="265284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858000" y="314784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867360" y="299556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6735600" y="1881360"/>
            <a:ext cx="814320" cy="703080"/>
            <a:chOff x="6735600" y="1881360"/>
            <a:chExt cx="814320" cy="703080"/>
          </a:xfrm>
        </p:grpSpPr>
        <p:sp>
          <p:nvSpPr>
            <p:cNvPr id="301" name=""/>
            <p:cNvSpPr/>
            <p:nvPr/>
          </p:nvSpPr>
          <p:spPr>
            <a:xfrm>
              <a:off x="6838560" y="2038320"/>
              <a:ext cx="676440" cy="48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95720" y="207180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735600" y="188136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791040" y="237636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800400" y="222408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5802480" y="2166840"/>
            <a:ext cx="814320" cy="703080"/>
            <a:chOff x="5802480" y="2166840"/>
            <a:chExt cx="814320" cy="703080"/>
          </a:xfrm>
        </p:grpSpPr>
        <p:sp>
          <p:nvSpPr>
            <p:cNvPr id="307" name=""/>
            <p:cNvSpPr/>
            <p:nvPr/>
          </p:nvSpPr>
          <p:spPr>
            <a:xfrm>
              <a:off x="5905440" y="2323800"/>
              <a:ext cx="676440" cy="48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862600" y="235728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802480" y="216684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857920" y="266184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867280" y="250956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5244840" y="1634760"/>
            <a:ext cx="2787120" cy="3137400"/>
            <a:chOff x="5244840" y="1634760"/>
            <a:chExt cx="2787120" cy="3137400"/>
          </a:xfrm>
        </p:grpSpPr>
        <p:sp>
          <p:nvSpPr>
            <p:cNvPr id="313" name=""/>
            <p:cNvSpPr/>
            <p:nvPr/>
          </p:nvSpPr>
          <p:spPr>
            <a:xfrm rot="2937600">
              <a:off x="5113440" y="3066480"/>
              <a:ext cx="3048120" cy="2764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2937600">
              <a:off x="5357160" y="3070440"/>
              <a:ext cx="259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logical end-end transpo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2937600">
              <a:off x="5326200" y="1731600"/>
              <a:ext cx="447840" cy="419400"/>
            </a:xfrm>
            <a:custGeom>
              <a:avLst/>
              <a:gdLst/>
              <a:ahLst/>
              <a:rect l="l" t="t" r="r" b="b"/>
              <a:pathLst>
                <a:path w="282" h="264">
                  <a:moveTo>
                    <a:pt x="282" y="0"/>
                  </a:moveTo>
                  <a:cubicBezTo>
                    <a:pt x="282" y="132"/>
                    <a:pt x="282" y="264"/>
                    <a:pt x="282" y="264"/>
                  </a:cubicBezTo>
                  <a:cubicBezTo>
                    <a:pt x="159" y="150"/>
                    <a:pt x="0" y="153"/>
                    <a:pt x="0" y="129"/>
                  </a:cubicBezTo>
                  <a:cubicBezTo>
                    <a:pt x="0" y="108"/>
                    <a:pt x="153" y="108"/>
                    <a:pt x="282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 rot="2937000">
              <a:off x="7502400" y="4256280"/>
              <a:ext cx="447480" cy="419400"/>
            </a:xfrm>
            <a:custGeom>
              <a:avLst/>
              <a:gdLst/>
              <a:ahLst/>
              <a:rect l="l" t="t" r="r" b="b"/>
              <a:pathLst>
                <a:path w="282" h="264">
                  <a:moveTo>
                    <a:pt x="282" y="0"/>
                  </a:moveTo>
                  <a:cubicBezTo>
                    <a:pt x="282" y="132"/>
                    <a:pt x="282" y="264"/>
                    <a:pt x="282" y="264"/>
                  </a:cubicBezTo>
                  <a:cubicBezTo>
                    <a:pt x="159" y="150"/>
                    <a:pt x="0" y="153"/>
                    <a:pt x="0" y="129"/>
                  </a:cubicBezTo>
                  <a:cubicBezTo>
                    <a:pt x="0" y="108"/>
                    <a:pt x="153" y="108"/>
                    <a:pt x="282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reliable Network Serv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look at the more general case if we are building our transport service on top of an unreliable network lay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unreliable network service makes the transport layer much more complicated if we want to ensure reli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 of unreliable network servic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dered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ransmission strate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plication det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ow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nection establish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nection term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ash reco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dered Deliv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P actually numbers segments starting at a random valu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izes possibility that a segment still in the network from an earlier, terminated connection between the same hosts is mistaken for a valid segment in a later connection (who would also have to happen to use the same port numb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transmission Strate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to re-transmit w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ment damaged in trans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ment fails to arr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long to wait until re-transmitt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short: duplicat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long: Unnecessary delay delivering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r Val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407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be a bit longer than Round Trip Time (RT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set timer to average of previous A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er may not ACK immediat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not distinguish between ACK of original segment and re-transmitted seg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ditions may change sudden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uplication Det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 possible to receive a duplicate after closing the connectio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correc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uplicat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0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  <p:sp>
        <p:nvSpPr>
          <p:cNvPr id="831" name=""/>
          <p:cNvSpPr/>
          <p:nvPr/>
        </p:nvSpPr>
        <p:spPr>
          <a:xfrm>
            <a:off x="228600" y="3505320"/>
            <a:ext cx="432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llustrates need for the sequence number space to be larger than the maximum possible segment life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368360" y="5715000"/>
            <a:ext cx="33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cycle back to SN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ow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use credit allocation described earl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ly little harm if a single ACK/Credit segment is lost, will resynchronize the next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if B sends AN=i, W=0 closing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ter, B sends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ution: use window ti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imer expires, send something to break the deadl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nection Establish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way handsha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end SYN, B replies with SY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t SYN handled by re-transm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lead to duplicate SY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gnore duplicate SYNs once conn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st or delayed data segments can cause connection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gment from old conn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51920" y="1447560"/>
            <a:ext cx="312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Wa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ndshak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solet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8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ansport-layer protoco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37760" y="1399680"/>
            <a:ext cx="3971880" cy="511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ernet transport servi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, in-order unicast delivery (TC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ges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ow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nection set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reliable (“best-effort”), unordered unicast or multicast delivery: UD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es not availab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ndwidth guarant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iable multica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788160" y="2019240"/>
            <a:ext cx="1798560" cy="1674720"/>
          </a:xfrm>
          <a:custGeom>
            <a:avLst/>
            <a:gdLst/>
            <a:ahLst/>
            <a:rect l="l" t="t" r="r" b="b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908600" y="1876320"/>
            <a:ext cx="1866960" cy="1589040"/>
          </a:xfrm>
          <a:custGeom>
            <a:avLst/>
            <a:gdLst/>
            <a:ahLst/>
            <a:rect l="l" t="t" r="r" b="b"/>
            <a:pathLst>
              <a:path w="1340" h="1191">
                <a:moveTo>
                  <a:pt x="550" y="42"/>
                </a:moveTo>
                <a:cubicBezTo>
                  <a:pt x="437" y="4"/>
                  <a:pt x="164" y="0"/>
                  <a:pt x="82" y="60"/>
                </a:cubicBezTo>
                <a:cubicBezTo>
                  <a:pt x="0" y="120"/>
                  <a:pt x="67" y="292"/>
                  <a:pt x="58" y="402"/>
                </a:cubicBezTo>
                <a:cubicBezTo>
                  <a:pt x="49" y="512"/>
                  <a:pt x="19" y="642"/>
                  <a:pt x="28" y="720"/>
                </a:cubicBezTo>
                <a:cubicBezTo>
                  <a:pt x="37" y="798"/>
                  <a:pt x="27" y="844"/>
                  <a:pt x="112" y="870"/>
                </a:cubicBezTo>
                <a:cubicBezTo>
                  <a:pt x="197" y="896"/>
                  <a:pt x="450" y="833"/>
                  <a:pt x="538" y="876"/>
                </a:cubicBezTo>
                <a:cubicBezTo>
                  <a:pt x="626" y="919"/>
                  <a:pt x="524" y="1091"/>
                  <a:pt x="640" y="1128"/>
                </a:cubicBezTo>
                <a:cubicBezTo>
                  <a:pt x="756" y="1165"/>
                  <a:pt x="1128" y="1191"/>
                  <a:pt x="1234" y="1098"/>
                </a:cubicBezTo>
                <a:cubicBezTo>
                  <a:pt x="1340" y="1005"/>
                  <a:pt x="1281" y="696"/>
                  <a:pt x="1276" y="570"/>
                </a:cubicBezTo>
                <a:cubicBezTo>
                  <a:pt x="1271" y="444"/>
                  <a:pt x="1290" y="389"/>
                  <a:pt x="1204" y="342"/>
                </a:cubicBezTo>
                <a:cubicBezTo>
                  <a:pt x="1118" y="295"/>
                  <a:pt x="868" y="338"/>
                  <a:pt x="760" y="288"/>
                </a:cubicBezTo>
                <a:cubicBezTo>
                  <a:pt x="652" y="238"/>
                  <a:pt x="663" y="80"/>
                  <a:pt x="550" y="42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276880" y="3327480"/>
            <a:ext cx="2975040" cy="2219400"/>
          </a:xfrm>
          <a:custGeom>
            <a:avLst/>
            <a:gdLst/>
            <a:ahLst/>
            <a:rect l="l" t="t" r="r" b="b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5025960" y="2011320"/>
            <a:ext cx="732960" cy="318960"/>
            <a:chOff x="5025960" y="2011320"/>
            <a:chExt cx="732960" cy="318960"/>
          </a:xfrm>
        </p:grpSpPr>
        <p:pic>
          <p:nvPicPr>
            <p:cNvPr id="323" name="" descr=""/>
            <p:cNvPicPr/>
            <p:nvPr/>
          </p:nvPicPr>
          <p:blipFill>
            <a:blip r:embed="rId1"/>
            <a:stretch/>
          </p:blipFill>
          <p:spPr>
            <a:xfrm>
              <a:off x="5025960" y="2011320"/>
              <a:ext cx="41616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" descr=""/>
            <p:cNvPicPr/>
            <p:nvPr/>
          </p:nvPicPr>
          <p:blipFill>
            <a:blip r:embed="rId2"/>
            <a:stretch/>
          </p:blipFill>
          <p:spPr>
            <a:xfrm>
              <a:off x="5479560" y="2129400"/>
              <a:ext cx="279360" cy="18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 flipV="1">
              <a:off x="5432400" y="2252880"/>
              <a:ext cx="11412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5025960" y="2606760"/>
            <a:ext cx="732960" cy="318960"/>
            <a:chOff x="5025960" y="2606760"/>
            <a:chExt cx="732960" cy="318960"/>
          </a:xfrm>
        </p:grpSpPr>
        <p:pic>
          <p:nvPicPr>
            <p:cNvPr id="327" name="" descr=""/>
            <p:cNvPicPr/>
            <p:nvPr/>
          </p:nvPicPr>
          <p:blipFill>
            <a:blip r:embed="rId3"/>
            <a:stretch/>
          </p:blipFill>
          <p:spPr>
            <a:xfrm>
              <a:off x="5025960" y="2606760"/>
              <a:ext cx="41616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" descr=""/>
            <p:cNvPicPr/>
            <p:nvPr/>
          </p:nvPicPr>
          <p:blipFill>
            <a:blip r:embed="rId4"/>
            <a:stretch/>
          </p:blipFill>
          <p:spPr>
            <a:xfrm>
              <a:off x="5479560" y="2724840"/>
              <a:ext cx="279360" cy="18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 flipV="1">
              <a:off x="5432400" y="2848320"/>
              <a:ext cx="11412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5402160" y="2394000"/>
            <a:ext cx="69480" cy="214200"/>
            <a:chOff x="5402160" y="2394000"/>
            <a:chExt cx="69480" cy="214200"/>
          </a:xfrm>
        </p:grpSpPr>
        <p:sp>
          <p:nvSpPr>
            <p:cNvPr id="331" name=""/>
            <p:cNvSpPr/>
            <p:nvPr/>
          </p:nvSpPr>
          <p:spPr>
            <a:xfrm>
              <a:off x="5402160" y="2394000"/>
              <a:ext cx="64080" cy="60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404680" y="2471040"/>
              <a:ext cx="64080" cy="60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407560" y="2548080"/>
              <a:ext cx="64080" cy="60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5872320" y="2897280"/>
            <a:ext cx="209520" cy="394920"/>
            <a:chOff x="5872320" y="2897280"/>
            <a:chExt cx="209520" cy="394920"/>
          </a:xfrm>
        </p:grpSpPr>
        <p:sp>
          <p:nvSpPr>
            <p:cNvPr id="335" name=""/>
            <p:cNvSpPr/>
            <p:nvPr/>
          </p:nvSpPr>
          <p:spPr>
            <a:xfrm>
              <a:off x="5872320" y="320112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978520" y="2899800"/>
              <a:ext cx="96120" cy="303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873400" y="2985840"/>
              <a:ext cx="132480" cy="303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872320" y="289728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081840" y="290340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6005880" y="3201120"/>
              <a:ext cx="7524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890320" y="3025800"/>
              <a:ext cx="87840" cy="174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902920" y="3078720"/>
              <a:ext cx="6660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6108840" y="3050640"/>
            <a:ext cx="233280" cy="81000"/>
            <a:chOff x="6108840" y="3050640"/>
            <a:chExt cx="233280" cy="81000"/>
          </a:xfrm>
        </p:grpSpPr>
        <p:sp>
          <p:nvSpPr>
            <p:cNvPr id="344" name=""/>
            <p:cNvSpPr/>
            <p:nvPr/>
          </p:nvSpPr>
          <p:spPr>
            <a:xfrm rot="16200000">
              <a:off x="6104160" y="3061440"/>
              <a:ext cx="74520" cy="65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16200000">
              <a:off x="6188040" y="3058200"/>
              <a:ext cx="74520" cy="65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rot="16200000">
              <a:off x="6271920" y="3054960"/>
              <a:ext cx="74520" cy="65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6008760" y="2805120"/>
            <a:ext cx="4953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012000" y="2801880"/>
            <a:ext cx="1440" cy="9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507000" y="2800440"/>
            <a:ext cx="1800" cy="8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708520" y="2265480"/>
            <a:ext cx="289080" cy="26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5721480" y="2550960"/>
            <a:ext cx="276120" cy="330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6248520" y="2637000"/>
            <a:ext cx="1440" cy="1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6367320" y="2874960"/>
            <a:ext cx="209520" cy="394920"/>
            <a:chOff x="6367320" y="2874960"/>
            <a:chExt cx="209520" cy="394920"/>
          </a:xfrm>
        </p:grpSpPr>
        <p:sp>
          <p:nvSpPr>
            <p:cNvPr id="354" name=""/>
            <p:cNvSpPr/>
            <p:nvPr/>
          </p:nvSpPr>
          <p:spPr>
            <a:xfrm>
              <a:off x="6367320" y="317880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473520" y="2877480"/>
              <a:ext cx="96120" cy="303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368400" y="2963520"/>
              <a:ext cx="132480" cy="303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67320" y="287496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576840" y="288108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6500880" y="3178800"/>
              <a:ext cx="7524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385320" y="3003480"/>
              <a:ext cx="87840" cy="174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397920" y="3056400"/>
              <a:ext cx="6660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5410080" y="3494160"/>
            <a:ext cx="479160" cy="925200"/>
            <a:chOff x="5410080" y="3494160"/>
            <a:chExt cx="479160" cy="925200"/>
          </a:xfrm>
        </p:grpSpPr>
        <p:pic>
          <p:nvPicPr>
            <p:cNvPr id="363" name="" descr=""/>
            <p:cNvPicPr/>
            <p:nvPr/>
          </p:nvPicPr>
          <p:blipFill>
            <a:blip r:embed="rId5"/>
            <a:stretch/>
          </p:blipFill>
          <p:spPr>
            <a:xfrm>
              <a:off x="5410080" y="3494160"/>
              <a:ext cx="41652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 flipV="1">
              <a:off x="5816880" y="3740760"/>
              <a:ext cx="7236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65" name="" descr=""/>
            <p:cNvPicPr/>
            <p:nvPr/>
          </p:nvPicPr>
          <p:blipFill>
            <a:blip r:embed="rId6"/>
            <a:stretch/>
          </p:blipFill>
          <p:spPr>
            <a:xfrm>
              <a:off x="5410080" y="4088880"/>
              <a:ext cx="41652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 flipV="1">
              <a:off x="5816880" y="4339080"/>
              <a:ext cx="7236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7" name=""/>
            <p:cNvGrpSpPr/>
            <p:nvPr/>
          </p:nvGrpSpPr>
          <p:grpSpPr>
            <a:xfrm>
              <a:off x="5535360" y="3835440"/>
              <a:ext cx="70560" cy="222480"/>
              <a:chOff x="5535360" y="3835440"/>
              <a:chExt cx="70560" cy="222480"/>
            </a:xfrm>
          </p:grpSpPr>
          <p:sp>
            <p:nvSpPr>
              <p:cNvPr id="368" name=""/>
              <p:cNvSpPr/>
              <p:nvPr/>
            </p:nvSpPr>
            <p:spPr>
              <a:xfrm>
                <a:off x="5535360" y="3835440"/>
                <a:ext cx="65160" cy="6264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537880" y="3915360"/>
                <a:ext cx="65160" cy="622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540760" y="3995640"/>
                <a:ext cx="65160" cy="622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1" name=""/>
            <p:cNvSpPr/>
            <p:nvPr/>
          </p:nvSpPr>
          <p:spPr>
            <a:xfrm>
              <a:off x="5883840" y="3737880"/>
              <a:ext cx="0" cy="60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2" name="" descr=""/>
          <p:cNvPicPr/>
          <p:nvPr/>
        </p:nvPicPr>
        <p:blipFill>
          <a:blip r:embed="rId7"/>
          <a:stretch/>
        </p:blipFill>
        <p:spPr>
          <a:xfrm>
            <a:off x="6278400" y="4503600"/>
            <a:ext cx="417600" cy="33192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8"/>
          <a:stretch/>
        </p:blipFill>
        <p:spPr>
          <a:xfrm>
            <a:off x="5664240" y="4492800"/>
            <a:ext cx="415800" cy="33012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 rot="16200000">
            <a:off x="6080760" y="4596480"/>
            <a:ext cx="63360" cy="651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rot="16200000">
            <a:off x="6165720" y="4593960"/>
            <a:ext cx="63720" cy="66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rot="16200000">
            <a:off x="6243480" y="4598640"/>
            <a:ext cx="61920" cy="651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6532560" y="4449600"/>
            <a:ext cx="1440" cy="60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5908680" y="4438800"/>
            <a:ext cx="0" cy="63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>
            <a:off x="5910120" y="4444920"/>
            <a:ext cx="62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5889600" y="4070520"/>
            <a:ext cx="9360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491160" y="4116240"/>
            <a:ext cx="303480" cy="38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7286760" y="4113360"/>
            <a:ext cx="279360" cy="392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9"/>
          <a:stretch/>
        </p:blipFill>
        <p:spPr>
          <a:xfrm>
            <a:off x="7464600" y="3665520"/>
            <a:ext cx="203040" cy="24120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10"/>
          <a:stretch/>
        </p:blipFill>
        <p:spPr>
          <a:xfrm>
            <a:off x="6127920" y="3746520"/>
            <a:ext cx="203040" cy="239760"/>
          </a:xfrm>
          <a:prstGeom prst="rect">
            <a:avLst/>
          </a:prstGeom>
          <a:ln w="0">
            <a:noFill/>
          </a:ln>
        </p:spPr>
      </p:pic>
      <p:grpSp>
        <p:nvGrpSpPr>
          <p:cNvPr id="385" name=""/>
          <p:cNvGrpSpPr/>
          <p:nvPr/>
        </p:nvGrpSpPr>
        <p:grpSpPr>
          <a:xfrm>
            <a:off x="6475320" y="4943520"/>
            <a:ext cx="406080" cy="426960"/>
            <a:chOff x="6475320" y="4943520"/>
            <a:chExt cx="406080" cy="426960"/>
          </a:xfrm>
        </p:grpSpPr>
        <p:pic>
          <p:nvPicPr>
            <p:cNvPr id="386" name="" descr=""/>
            <p:cNvPicPr/>
            <p:nvPr/>
          </p:nvPicPr>
          <p:blipFill>
            <a:blip r:embed="rId11"/>
            <a:stretch/>
          </p:blipFill>
          <p:spPr>
            <a:xfrm>
              <a:off x="6475320" y="4943520"/>
              <a:ext cx="37836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" name="" descr=""/>
            <p:cNvPicPr/>
            <p:nvPr/>
          </p:nvPicPr>
          <p:blipFill>
            <a:blip r:embed="rId12"/>
            <a:stretch/>
          </p:blipFill>
          <p:spPr>
            <a:xfrm>
              <a:off x="6535080" y="505548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8" name=""/>
          <p:cNvGrpSpPr/>
          <p:nvPr/>
        </p:nvGrpSpPr>
        <p:grpSpPr>
          <a:xfrm>
            <a:off x="7253280" y="4975200"/>
            <a:ext cx="406080" cy="426960"/>
            <a:chOff x="7253280" y="4975200"/>
            <a:chExt cx="406080" cy="426960"/>
          </a:xfrm>
        </p:grpSpPr>
        <p:pic>
          <p:nvPicPr>
            <p:cNvPr id="389" name="" descr=""/>
            <p:cNvPicPr/>
            <p:nvPr/>
          </p:nvPicPr>
          <p:blipFill>
            <a:blip r:embed="rId13"/>
            <a:stretch/>
          </p:blipFill>
          <p:spPr>
            <a:xfrm>
              <a:off x="7253280" y="4975200"/>
              <a:ext cx="37836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" descr=""/>
            <p:cNvPicPr/>
            <p:nvPr/>
          </p:nvPicPr>
          <p:blipFill>
            <a:blip r:embed="rId14"/>
            <a:stretch/>
          </p:blipFill>
          <p:spPr>
            <a:xfrm>
              <a:off x="7313040" y="508716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1" name=""/>
          <p:cNvGrpSpPr/>
          <p:nvPr/>
        </p:nvGrpSpPr>
        <p:grpSpPr>
          <a:xfrm>
            <a:off x="6838920" y="4691160"/>
            <a:ext cx="379440" cy="376200"/>
            <a:chOff x="6838920" y="4691160"/>
            <a:chExt cx="379440" cy="376200"/>
          </a:xfrm>
        </p:grpSpPr>
        <p:pic>
          <p:nvPicPr>
            <p:cNvPr id="392" name="" descr=""/>
            <p:cNvPicPr/>
            <p:nvPr/>
          </p:nvPicPr>
          <p:blipFill>
            <a:blip r:embed="rId15"/>
            <a:stretch/>
          </p:blipFill>
          <p:spPr>
            <a:xfrm>
              <a:off x="6838920" y="4691160"/>
              <a:ext cx="379440" cy="3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/>
            <p:cNvSpPr/>
            <p:nvPr/>
          </p:nvSpPr>
          <p:spPr>
            <a:xfrm>
              <a:off x="6949080" y="4823280"/>
              <a:ext cx="267480" cy="244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7145280" y="4594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7866000" y="4017960"/>
            <a:ext cx="208080" cy="409680"/>
            <a:chOff x="7866000" y="4017960"/>
            <a:chExt cx="208080" cy="409680"/>
          </a:xfrm>
        </p:grpSpPr>
        <p:sp>
          <p:nvSpPr>
            <p:cNvPr id="396" name=""/>
            <p:cNvSpPr/>
            <p:nvPr/>
          </p:nvSpPr>
          <p:spPr>
            <a:xfrm>
              <a:off x="7866000" y="433296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971120" y="4020480"/>
              <a:ext cx="95400" cy="3146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867080" y="4109760"/>
              <a:ext cx="131760" cy="3150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866000" y="401796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074080" y="4024440"/>
              <a:ext cx="0" cy="3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7998840" y="4332960"/>
              <a:ext cx="7488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883640" y="4151160"/>
              <a:ext cx="87480" cy="1814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896240" y="4205880"/>
              <a:ext cx="6624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7853400" y="4462560"/>
            <a:ext cx="208080" cy="408960"/>
            <a:chOff x="7853400" y="4462560"/>
            <a:chExt cx="208080" cy="408960"/>
          </a:xfrm>
        </p:grpSpPr>
        <p:sp>
          <p:nvSpPr>
            <p:cNvPr id="405" name=""/>
            <p:cNvSpPr/>
            <p:nvPr/>
          </p:nvSpPr>
          <p:spPr>
            <a:xfrm>
              <a:off x="7853400" y="4777200"/>
              <a:ext cx="208080" cy="94320"/>
            </a:xfrm>
            <a:prstGeom prst="parallelogram">
              <a:avLst>
                <a:gd name="adj" fmla="val 84986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958520" y="4465080"/>
              <a:ext cx="95400" cy="3142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854480" y="4554360"/>
              <a:ext cx="131760" cy="314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853400" y="4462560"/>
              <a:ext cx="208080" cy="94320"/>
            </a:xfrm>
            <a:prstGeom prst="parallelogram">
              <a:avLst>
                <a:gd name="adj" fmla="val 84986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8061480" y="4469040"/>
              <a:ext cx="0" cy="30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7986240" y="4777200"/>
              <a:ext cx="7488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871040" y="4595760"/>
              <a:ext cx="87480" cy="1810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883640" y="4650480"/>
              <a:ext cx="6624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"/>
          <p:cNvSpPr/>
          <p:nvPr/>
        </p:nvSpPr>
        <p:spPr>
          <a:xfrm flipV="1">
            <a:off x="7785000" y="4086000"/>
            <a:ext cx="0" cy="61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781760" y="4695840"/>
            <a:ext cx="10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778880" y="421956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6502320" y="2315880"/>
            <a:ext cx="459000" cy="20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437600" y="2300400"/>
            <a:ext cx="485640" cy="20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7956720" y="2637000"/>
            <a:ext cx="241200" cy="68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186680" y="2413080"/>
            <a:ext cx="0" cy="43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211880" y="3060720"/>
            <a:ext cx="53496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7671960" y="3525840"/>
            <a:ext cx="26676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7445520" y="2604960"/>
            <a:ext cx="560160" cy="38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7454520" y="2044800"/>
            <a:ext cx="351000" cy="255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8172360" y="2220840"/>
            <a:ext cx="201600" cy="17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5983200" y="2413080"/>
            <a:ext cx="501840" cy="232920"/>
            <a:chOff x="5983200" y="2413080"/>
            <a:chExt cx="501840" cy="232920"/>
          </a:xfrm>
        </p:grpSpPr>
        <p:sp>
          <p:nvSpPr>
            <p:cNvPr id="426" name=""/>
            <p:cNvSpPr/>
            <p:nvPr/>
          </p:nvSpPr>
          <p:spPr>
            <a:xfrm>
              <a:off x="5987160" y="2517120"/>
              <a:ext cx="4975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987160" y="25059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485040" y="25059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987160" y="250596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983200" y="2413080"/>
              <a:ext cx="4971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6102720" y="2445840"/>
              <a:ext cx="246240" cy="88200"/>
              <a:chOff x="6102720" y="2445840"/>
              <a:chExt cx="246240" cy="88200"/>
            </a:xfrm>
          </p:grpSpPr>
          <p:sp>
            <p:nvSpPr>
              <p:cNvPr id="432" name=""/>
              <p:cNvSpPr/>
              <p:nvPr/>
            </p:nvSpPr>
            <p:spPr>
              <a:xfrm flipV="1">
                <a:off x="6102720" y="24458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271560" y="25340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6183720" y="24480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5" name=""/>
            <p:cNvGrpSpPr/>
            <p:nvPr/>
          </p:nvGrpSpPr>
          <p:grpSpPr>
            <a:xfrm>
              <a:off x="6102720" y="2445120"/>
              <a:ext cx="246240" cy="88200"/>
              <a:chOff x="6102720" y="2445120"/>
              <a:chExt cx="246240" cy="88200"/>
            </a:xfrm>
          </p:grpSpPr>
          <p:sp>
            <p:nvSpPr>
              <p:cNvPr id="436" name=""/>
              <p:cNvSpPr/>
              <p:nvPr/>
            </p:nvSpPr>
            <p:spPr>
              <a:xfrm>
                <a:off x="6102720" y="25315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6271560" y="24451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V="1">
                <a:off x="6183720" y="24451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9" name=""/>
          <p:cNvGrpSpPr/>
          <p:nvPr/>
        </p:nvGrpSpPr>
        <p:grpSpPr>
          <a:xfrm>
            <a:off x="6935760" y="2184480"/>
            <a:ext cx="501840" cy="232920"/>
            <a:chOff x="6935760" y="2184480"/>
            <a:chExt cx="501840" cy="232920"/>
          </a:xfrm>
        </p:grpSpPr>
        <p:sp>
          <p:nvSpPr>
            <p:cNvPr id="440" name=""/>
            <p:cNvSpPr/>
            <p:nvPr/>
          </p:nvSpPr>
          <p:spPr>
            <a:xfrm>
              <a:off x="6939720" y="2288520"/>
              <a:ext cx="4975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939720" y="22773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437600" y="22773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939720" y="227736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935760" y="2184480"/>
              <a:ext cx="4971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5" name=""/>
            <p:cNvGrpSpPr/>
            <p:nvPr/>
          </p:nvGrpSpPr>
          <p:grpSpPr>
            <a:xfrm>
              <a:off x="7055280" y="2217240"/>
              <a:ext cx="246240" cy="88200"/>
              <a:chOff x="7055280" y="2217240"/>
              <a:chExt cx="246240" cy="88200"/>
            </a:xfrm>
          </p:grpSpPr>
          <p:sp>
            <p:nvSpPr>
              <p:cNvPr id="446" name=""/>
              <p:cNvSpPr/>
              <p:nvPr/>
            </p:nvSpPr>
            <p:spPr>
              <a:xfrm flipV="1">
                <a:off x="7055280" y="22172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7224120" y="23054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7136280" y="22194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9" name=""/>
            <p:cNvGrpSpPr/>
            <p:nvPr/>
          </p:nvGrpSpPr>
          <p:grpSpPr>
            <a:xfrm>
              <a:off x="7055280" y="2216520"/>
              <a:ext cx="246240" cy="88200"/>
              <a:chOff x="7055280" y="2216520"/>
              <a:chExt cx="246240" cy="88200"/>
            </a:xfrm>
          </p:grpSpPr>
          <p:sp>
            <p:nvSpPr>
              <p:cNvPr id="450" name=""/>
              <p:cNvSpPr/>
              <p:nvPr/>
            </p:nvSpPr>
            <p:spPr>
              <a:xfrm>
                <a:off x="7055280" y="23029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7224120" y="22165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V="1">
                <a:off x="7136280" y="22165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3" name=""/>
          <p:cNvGrpSpPr/>
          <p:nvPr/>
        </p:nvGrpSpPr>
        <p:grpSpPr>
          <a:xfrm>
            <a:off x="6953400" y="2841480"/>
            <a:ext cx="501480" cy="233280"/>
            <a:chOff x="6953400" y="2841480"/>
            <a:chExt cx="501480" cy="233280"/>
          </a:xfrm>
        </p:grpSpPr>
        <p:sp>
          <p:nvSpPr>
            <p:cNvPr id="454" name=""/>
            <p:cNvSpPr/>
            <p:nvPr/>
          </p:nvSpPr>
          <p:spPr>
            <a:xfrm>
              <a:off x="6957360" y="2945520"/>
              <a:ext cx="497160" cy="1292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957360" y="293472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454880" y="293472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957360" y="2934720"/>
              <a:ext cx="49284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953400" y="2841480"/>
              <a:ext cx="49680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9" name=""/>
            <p:cNvGrpSpPr/>
            <p:nvPr/>
          </p:nvGrpSpPr>
          <p:grpSpPr>
            <a:xfrm>
              <a:off x="7072920" y="2874240"/>
              <a:ext cx="246240" cy="88560"/>
              <a:chOff x="7072920" y="2874240"/>
              <a:chExt cx="246240" cy="88560"/>
            </a:xfrm>
          </p:grpSpPr>
          <p:sp>
            <p:nvSpPr>
              <p:cNvPr id="460" name=""/>
              <p:cNvSpPr/>
              <p:nvPr/>
            </p:nvSpPr>
            <p:spPr>
              <a:xfrm flipV="1">
                <a:off x="7072920" y="28742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7241760" y="29628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7153920" y="287640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3" name=""/>
            <p:cNvGrpSpPr/>
            <p:nvPr/>
          </p:nvGrpSpPr>
          <p:grpSpPr>
            <a:xfrm>
              <a:off x="7072920" y="2873160"/>
              <a:ext cx="246240" cy="88560"/>
              <a:chOff x="7072920" y="2873160"/>
              <a:chExt cx="246240" cy="88560"/>
            </a:xfrm>
          </p:grpSpPr>
          <p:sp>
            <p:nvSpPr>
              <p:cNvPr id="464" name=""/>
              <p:cNvSpPr/>
              <p:nvPr/>
            </p:nvSpPr>
            <p:spPr>
              <a:xfrm>
                <a:off x="7072920" y="29599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7241760" y="28731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V="1">
                <a:off x="7153920" y="287316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7" name=""/>
          <p:cNvGrpSpPr/>
          <p:nvPr/>
        </p:nvGrpSpPr>
        <p:grpSpPr>
          <a:xfrm>
            <a:off x="7923240" y="2392200"/>
            <a:ext cx="500040" cy="233280"/>
            <a:chOff x="7923240" y="2392200"/>
            <a:chExt cx="500040" cy="233280"/>
          </a:xfrm>
        </p:grpSpPr>
        <p:sp>
          <p:nvSpPr>
            <p:cNvPr id="468" name=""/>
            <p:cNvSpPr/>
            <p:nvPr/>
          </p:nvSpPr>
          <p:spPr>
            <a:xfrm>
              <a:off x="7927200" y="2496240"/>
              <a:ext cx="495720" cy="1292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927200" y="248544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423280" y="248544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927200" y="2485440"/>
              <a:ext cx="4914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923240" y="2392200"/>
              <a:ext cx="49536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3" name=""/>
            <p:cNvGrpSpPr/>
            <p:nvPr/>
          </p:nvGrpSpPr>
          <p:grpSpPr>
            <a:xfrm>
              <a:off x="8042400" y="2424960"/>
              <a:ext cx="245520" cy="88560"/>
              <a:chOff x="8042400" y="2424960"/>
              <a:chExt cx="245520" cy="88560"/>
            </a:xfrm>
          </p:grpSpPr>
          <p:sp>
            <p:nvSpPr>
              <p:cNvPr id="474" name=""/>
              <p:cNvSpPr/>
              <p:nvPr/>
            </p:nvSpPr>
            <p:spPr>
              <a:xfrm flipV="1">
                <a:off x="8042400" y="242496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8210880" y="251352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8123040" y="2427120"/>
                <a:ext cx="9108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7" name=""/>
            <p:cNvGrpSpPr/>
            <p:nvPr/>
          </p:nvGrpSpPr>
          <p:grpSpPr>
            <a:xfrm>
              <a:off x="8042400" y="2423880"/>
              <a:ext cx="245520" cy="88560"/>
              <a:chOff x="8042400" y="2423880"/>
              <a:chExt cx="245520" cy="88560"/>
            </a:xfrm>
          </p:grpSpPr>
          <p:sp>
            <p:nvSpPr>
              <p:cNvPr id="478" name=""/>
              <p:cNvSpPr/>
              <p:nvPr/>
            </p:nvSpPr>
            <p:spPr>
              <a:xfrm>
                <a:off x="8042400" y="251064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8210880" y="242388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V="1">
                <a:off x="8123040" y="2423880"/>
                <a:ext cx="9108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1" name=""/>
          <p:cNvGrpSpPr/>
          <p:nvPr/>
        </p:nvGrpSpPr>
        <p:grpSpPr>
          <a:xfrm>
            <a:off x="7729560" y="3289320"/>
            <a:ext cx="501480" cy="232920"/>
            <a:chOff x="7729560" y="3289320"/>
            <a:chExt cx="501480" cy="232920"/>
          </a:xfrm>
        </p:grpSpPr>
        <p:sp>
          <p:nvSpPr>
            <p:cNvPr id="482" name=""/>
            <p:cNvSpPr/>
            <p:nvPr/>
          </p:nvSpPr>
          <p:spPr>
            <a:xfrm>
              <a:off x="7733520" y="339336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733520" y="33822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231040" y="33822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733520" y="3382200"/>
              <a:ext cx="49284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729560" y="328932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7" name=""/>
            <p:cNvGrpSpPr/>
            <p:nvPr/>
          </p:nvGrpSpPr>
          <p:grpSpPr>
            <a:xfrm>
              <a:off x="7849080" y="3322080"/>
              <a:ext cx="246240" cy="88200"/>
              <a:chOff x="7849080" y="3322080"/>
              <a:chExt cx="246240" cy="88200"/>
            </a:xfrm>
          </p:grpSpPr>
          <p:sp>
            <p:nvSpPr>
              <p:cNvPr id="488" name=""/>
              <p:cNvSpPr/>
              <p:nvPr/>
            </p:nvSpPr>
            <p:spPr>
              <a:xfrm flipV="1">
                <a:off x="7849080" y="33220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8017920" y="34102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7930080" y="33242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1" name=""/>
            <p:cNvGrpSpPr/>
            <p:nvPr/>
          </p:nvGrpSpPr>
          <p:grpSpPr>
            <a:xfrm>
              <a:off x="7849080" y="3321360"/>
              <a:ext cx="246240" cy="88200"/>
              <a:chOff x="7849080" y="3321360"/>
              <a:chExt cx="246240" cy="88200"/>
            </a:xfrm>
          </p:grpSpPr>
          <p:sp>
            <p:nvSpPr>
              <p:cNvPr id="492" name=""/>
              <p:cNvSpPr/>
              <p:nvPr/>
            </p:nvSpPr>
            <p:spPr>
              <a:xfrm>
                <a:off x="7849080" y="34077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8017920" y="33213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flipV="1">
                <a:off x="7930080" y="332136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5" name=""/>
          <p:cNvGrpSpPr/>
          <p:nvPr/>
        </p:nvGrpSpPr>
        <p:grpSpPr>
          <a:xfrm>
            <a:off x="7396200" y="3873600"/>
            <a:ext cx="501480" cy="234360"/>
            <a:chOff x="7396200" y="3873600"/>
            <a:chExt cx="501480" cy="234360"/>
          </a:xfrm>
        </p:grpSpPr>
        <p:sp>
          <p:nvSpPr>
            <p:cNvPr id="496" name=""/>
            <p:cNvSpPr/>
            <p:nvPr/>
          </p:nvSpPr>
          <p:spPr>
            <a:xfrm>
              <a:off x="7400160" y="3978000"/>
              <a:ext cx="497160" cy="1299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400160" y="396720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897680" y="396720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400160" y="3967200"/>
              <a:ext cx="492840" cy="79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396200" y="3873600"/>
              <a:ext cx="496800" cy="1515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1" name=""/>
            <p:cNvGrpSpPr/>
            <p:nvPr/>
          </p:nvGrpSpPr>
          <p:grpSpPr>
            <a:xfrm>
              <a:off x="7515720" y="3906720"/>
              <a:ext cx="246240" cy="88920"/>
              <a:chOff x="7515720" y="3906720"/>
              <a:chExt cx="246240" cy="88920"/>
            </a:xfrm>
          </p:grpSpPr>
          <p:sp>
            <p:nvSpPr>
              <p:cNvPr id="502" name=""/>
              <p:cNvSpPr/>
              <p:nvPr/>
            </p:nvSpPr>
            <p:spPr>
              <a:xfrm flipV="1">
                <a:off x="7515720" y="39067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684560" y="39956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596720" y="390888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5" name=""/>
            <p:cNvGrpSpPr/>
            <p:nvPr/>
          </p:nvGrpSpPr>
          <p:grpSpPr>
            <a:xfrm>
              <a:off x="7515720" y="3905640"/>
              <a:ext cx="246240" cy="88920"/>
              <a:chOff x="7515720" y="3905640"/>
              <a:chExt cx="246240" cy="88920"/>
            </a:xfrm>
          </p:grpSpPr>
          <p:sp>
            <p:nvSpPr>
              <p:cNvPr id="506" name=""/>
              <p:cNvSpPr/>
              <p:nvPr/>
            </p:nvSpPr>
            <p:spPr>
              <a:xfrm>
                <a:off x="7515720" y="39927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684560" y="39056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V="1">
                <a:off x="7596720" y="390564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9" name=""/>
          <p:cNvGrpSpPr/>
          <p:nvPr/>
        </p:nvGrpSpPr>
        <p:grpSpPr>
          <a:xfrm>
            <a:off x="6786720" y="4362480"/>
            <a:ext cx="500040" cy="232920"/>
            <a:chOff x="6786720" y="4362480"/>
            <a:chExt cx="500040" cy="232920"/>
          </a:xfrm>
        </p:grpSpPr>
        <p:sp>
          <p:nvSpPr>
            <p:cNvPr id="510" name=""/>
            <p:cNvSpPr/>
            <p:nvPr/>
          </p:nvSpPr>
          <p:spPr>
            <a:xfrm>
              <a:off x="6790680" y="4466520"/>
              <a:ext cx="4957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790680" y="44553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286760" y="44553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790680" y="4455360"/>
              <a:ext cx="4914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786720" y="4362480"/>
              <a:ext cx="4953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5" name=""/>
            <p:cNvGrpSpPr/>
            <p:nvPr/>
          </p:nvGrpSpPr>
          <p:grpSpPr>
            <a:xfrm>
              <a:off x="6905880" y="4395240"/>
              <a:ext cx="245520" cy="88200"/>
              <a:chOff x="6905880" y="4395240"/>
              <a:chExt cx="245520" cy="88200"/>
            </a:xfrm>
          </p:grpSpPr>
          <p:sp>
            <p:nvSpPr>
              <p:cNvPr id="516" name=""/>
              <p:cNvSpPr/>
              <p:nvPr/>
            </p:nvSpPr>
            <p:spPr>
              <a:xfrm flipV="1">
                <a:off x="6905880" y="439524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7074360" y="448344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986520" y="439740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9" name=""/>
            <p:cNvGrpSpPr/>
            <p:nvPr/>
          </p:nvGrpSpPr>
          <p:grpSpPr>
            <a:xfrm>
              <a:off x="6905880" y="4394520"/>
              <a:ext cx="245520" cy="88200"/>
              <a:chOff x="6905880" y="4394520"/>
              <a:chExt cx="245520" cy="88200"/>
            </a:xfrm>
          </p:grpSpPr>
          <p:sp>
            <p:nvSpPr>
              <p:cNvPr id="520" name=""/>
              <p:cNvSpPr/>
              <p:nvPr/>
            </p:nvSpPr>
            <p:spPr>
              <a:xfrm>
                <a:off x="6905880" y="448092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074360" y="439452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V="1">
                <a:off x="6986520" y="439452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3" name=""/>
          <p:cNvGrpSpPr/>
          <p:nvPr/>
        </p:nvGrpSpPr>
        <p:grpSpPr>
          <a:xfrm>
            <a:off x="5983200" y="3986280"/>
            <a:ext cx="501840" cy="232920"/>
            <a:chOff x="5983200" y="3986280"/>
            <a:chExt cx="501840" cy="232920"/>
          </a:xfrm>
        </p:grpSpPr>
        <p:sp>
          <p:nvSpPr>
            <p:cNvPr id="524" name=""/>
            <p:cNvSpPr/>
            <p:nvPr/>
          </p:nvSpPr>
          <p:spPr>
            <a:xfrm>
              <a:off x="5987160" y="4090320"/>
              <a:ext cx="4975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987160" y="40791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485040" y="40791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987160" y="407916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983200" y="3986280"/>
              <a:ext cx="4971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9" name=""/>
            <p:cNvGrpSpPr/>
            <p:nvPr/>
          </p:nvGrpSpPr>
          <p:grpSpPr>
            <a:xfrm>
              <a:off x="6102720" y="4019040"/>
              <a:ext cx="246240" cy="88200"/>
              <a:chOff x="6102720" y="4019040"/>
              <a:chExt cx="246240" cy="88200"/>
            </a:xfrm>
          </p:grpSpPr>
          <p:sp>
            <p:nvSpPr>
              <p:cNvPr id="530" name=""/>
              <p:cNvSpPr/>
              <p:nvPr/>
            </p:nvSpPr>
            <p:spPr>
              <a:xfrm flipV="1">
                <a:off x="6102720" y="40190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6271560" y="41072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6183720" y="40212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3" name=""/>
            <p:cNvGrpSpPr/>
            <p:nvPr/>
          </p:nvGrpSpPr>
          <p:grpSpPr>
            <a:xfrm>
              <a:off x="6102720" y="4018320"/>
              <a:ext cx="246240" cy="88200"/>
              <a:chOff x="6102720" y="4018320"/>
              <a:chExt cx="246240" cy="88200"/>
            </a:xfrm>
          </p:grpSpPr>
          <p:sp>
            <p:nvSpPr>
              <p:cNvPr id="534" name=""/>
              <p:cNvSpPr/>
              <p:nvPr/>
            </p:nvSpPr>
            <p:spPr>
              <a:xfrm>
                <a:off x="6102720" y="41047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271560" y="40183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V="1">
                <a:off x="6183720" y="40183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7" name=""/>
          <p:cNvSpPr/>
          <p:nvPr/>
        </p:nvSpPr>
        <p:spPr>
          <a:xfrm flipV="1">
            <a:off x="6238800" y="4199040"/>
            <a:ext cx="1800" cy="24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4692600" y="1533600"/>
            <a:ext cx="814320" cy="1007640"/>
            <a:chOff x="4692600" y="1533600"/>
            <a:chExt cx="814320" cy="1007640"/>
          </a:xfrm>
        </p:grpSpPr>
        <p:sp>
          <p:nvSpPr>
            <p:cNvPr id="539" name=""/>
            <p:cNvSpPr/>
            <p:nvPr/>
          </p:nvSpPr>
          <p:spPr>
            <a:xfrm>
              <a:off x="4790880" y="1538280"/>
              <a:ext cx="676440" cy="77616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757400" y="1562040"/>
              <a:ext cx="690840" cy="800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762440" y="1738440"/>
              <a:ext cx="676080" cy="171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692600" y="1533600"/>
              <a:ext cx="81432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pplic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transpor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757400" y="190512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767120" y="204300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767120" y="2181240"/>
              <a:ext cx="6904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7816680" y="4419720"/>
            <a:ext cx="814320" cy="1007640"/>
            <a:chOff x="7816680" y="4419720"/>
            <a:chExt cx="814320" cy="1007640"/>
          </a:xfrm>
        </p:grpSpPr>
        <p:sp>
          <p:nvSpPr>
            <p:cNvPr id="547" name=""/>
            <p:cNvSpPr/>
            <p:nvPr/>
          </p:nvSpPr>
          <p:spPr>
            <a:xfrm>
              <a:off x="7914960" y="4424400"/>
              <a:ext cx="676440" cy="77616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881480" y="4448160"/>
              <a:ext cx="690840" cy="800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886520" y="4624560"/>
              <a:ext cx="676080" cy="171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816680" y="4419720"/>
              <a:ext cx="81432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pplic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transpor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881480" y="479124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891200" y="492912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891200" y="5067360"/>
              <a:ext cx="6904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7155000" y="3538440"/>
            <a:ext cx="814320" cy="703080"/>
            <a:chOff x="7155000" y="3538440"/>
            <a:chExt cx="814320" cy="703080"/>
          </a:xfrm>
        </p:grpSpPr>
        <p:sp>
          <p:nvSpPr>
            <p:cNvPr id="555" name=""/>
            <p:cNvSpPr/>
            <p:nvPr/>
          </p:nvSpPr>
          <p:spPr>
            <a:xfrm>
              <a:off x="7257960" y="3695400"/>
              <a:ext cx="676440" cy="48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215120" y="372888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155000" y="353844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210440" y="403344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219800" y="388116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0" name=""/>
          <p:cNvGrpSpPr/>
          <p:nvPr/>
        </p:nvGrpSpPr>
        <p:grpSpPr>
          <a:xfrm>
            <a:off x="7688160" y="2957400"/>
            <a:ext cx="814320" cy="703080"/>
            <a:chOff x="7688160" y="2957400"/>
            <a:chExt cx="814320" cy="703080"/>
          </a:xfrm>
        </p:grpSpPr>
        <p:sp>
          <p:nvSpPr>
            <p:cNvPr id="561" name=""/>
            <p:cNvSpPr/>
            <p:nvPr/>
          </p:nvSpPr>
          <p:spPr>
            <a:xfrm>
              <a:off x="7791120" y="3114360"/>
              <a:ext cx="676440" cy="48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748280" y="314784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688160" y="295740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743600" y="345240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752960" y="330012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6802560" y="2652840"/>
            <a:ext cx="814320" cy="703080"/>
            <a:chOff x="6802560" y="2652840"/>
            <a:chExt cx="814320" cy="703080"/>
          </a:xfrm>
        </p:grpSpPr>
        <p:sp>
          <p:nvSpPr>
            <p:cNvPr id="567" name=""/>
            <p:cNvSpPr/>
            <p:nvPr/>
          </p:nvSpPr>
          <p:spPr>
            <a:xfrm>
              <a:off x="6905520" y="2809800"/>
              <a:ext cx="676440" cy="48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862680" y="284328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802560" y="265284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858000" y="314784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867360" y="299556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6735600" y="1881360"/>
            <a:ext cx="814320" cy="703080"/>
            <a:chOff x="6735600" y="1881360"/>
            <a:chExt cx="814320" cy="703080"/>
          </a:xfrm>
        </p:grpSpPr>
        <p:sp>
          <p:nvSpPr>
            <p:cNvPr id="573" name=""/>
            <p:cNvSpPr/>
            <p:nvPr/>
          </p:nvSpPr>
          <p:spPr>
            <a:xfrm>
              <a:off x="6838560" y="2038320"/>
              <a:ext cx="676440" cy="48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795720" y="207180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735600" y="188136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791040" y="237636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800400" y="222408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5802480" y="2166840"/>
            <a:ext cx="814320" cy="703080"/>
            <a:chOff x="5802480" y="2166840"/>
            <a:chExt cx="814320" cy="703080"/>
          </a:xfrm>
        </p:grpSpPr>
        <p:sp>
          <p:nvSpPr>
            <p:cNvPr id="579" name=""/>
            <p:cNvSpPr/>
            <p:nvPr/>
          </p:nvSpPr>
          <p:spPr>
            <a:xfrm>
              <a:off x="5905440" y="2323800"/>
              <a:ext cx="676440" cy="48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862600" y="235728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802480" y="216684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857920" y="266184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867280" y="250956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5244840" y="1634760"/>
            <a:ext cx="2787120" cy="3137400"/>
            <a:chOff x="5244840" y="1634760"/>
            <a:chExt cx="2787120" cy="3137400"/>
          </a:xfrm>
        </p:grpSpPr>
        <p:sp>
          <p:nvSpPr>
            <p:cNvPr id="585" name=""/>
            <p:cNvSpPr/>
            <p:nvPr/>
          </p:nvSpPr>
          <p:spPr>
            <a:xfrm rot="2937600">
              <a:off x="5113440" y="3066480"/>
              <a:ext cx="3048120" cy="2764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rot="2937600">
              <a:off x="5357160" y="3070440"/>
              <a:ext cx="259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logical end-end transpo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rot="2937600">
              <a:off x="5326200" y="1731600"/>
              <a:ext cx="447840" cy="419400"/>
            </a:xfrm>
            <a:custGeom>
              <a:avLst/>
              <a:gdLst/>
              <a:ahLst/>
              <a:rect l="l" t="t" r="r" b="b"/>
              <a:pathLst>
                <a:path w="282" h="264">
                  <a:moveTo>
                    <a:pt x="282" y="0"/>
                  </a:moveTo>
                  <a:cubicBezTo>
                    <a:pt x="282" y="132"/>
                    <a:pt x="282" y="264"/>
                    <a:pt x="282" y="264"/>
                  </a:cubicBezTo>
                  <a:cubicBezTo>
                    <a:pt x="159" y="150"/>
                    <a:pt x="0" y="153"/>
                    <a:pt x="0" y="129"/>
                  </a:cubicBezTo>
                  <a:cubicBezTo>
                    <a:pt x="0" y="108"/>
                    <a:pt x="153" y="108"/>
                    <a:pt x="282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 rot="2937000">
              <a:off x="7502400" y="4256280"/>
              <a:ext cx="447480" cy="419400"/>
            </a:xfrm>
            <a:custGeom>
              <a:avLst/>
              <a:gdLst/>
              <a:ahLst/>
              <a:rect l="l" t="t" r="r" b="b"/>
              <a:pathLst>
                <a:path w="282" h="264">
                  <a:moveTo>
                    <a:pt x="282" y="0"/>
                  </a:moveTo>
                  <a:cubicBezTo>
                    <a:pt x="282" y="132"/>
                    <a:pt x="282" y="264"/>
                    <a:pt x="282" y="264"/>
                  </a:cubicBezTo>
                  <a:cubicBezTo>
                    <a:pt x="159" y="150"/>
                    <a:pt x="0" y="153"/>
                    <a:pt x="0" y="129"/>
                  </a:cubicBezTo>
                  <a:cubicBezTo>
                    <a:pt x="0" y="108"/>
                    <a:pt x="153" y="108"/>
                    <a:pt x="282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Way Handshak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solete SYN Seg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0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  <p:sp>
        <p:nvSpPr>
          <p:cNvPr id="841" name=""/>
          <p:cNvSpPr/>
          <p:nvPr/>
        </p:nvSpPr>
        <p:spPr>
          <a:xfrm>
            <a:off x="5314320" y="3886200"/>
            <a:ext cx="200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expects SN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76320" y="358128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wants new connection, picks SN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nection Establishment – Three Way Handshak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: Explicitly acknowledge each other’s SYN and sequenc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YN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ACK to include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ed the Three Way Handsha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ee Wa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ndshak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6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3174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ee Wa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ndshak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a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8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nection Term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problems we had with connection establishment can also occur with connection term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t or obsolete FIN seg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lose last data segment if FIN arrives before last data seg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: associate sequence number with F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er waits for all segments before FIN sequenc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explicitly ACK F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ceful Clo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 FIN i and receive AN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e FIN j and send AN 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it twice maximum expected segment life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ash Recov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transport service crashes and restarts, after restart all state info is l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nection is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half o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CP:Overview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FCs: 793, 1122, 1323, 2018, 25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809600" y="1552320"/>
            <a:ext cx="395316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ull duplex da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-directional data flow in same conn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SS: maximum segment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nnection-oriented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ndshaking (exchange of control msgs) init’s sender, receiver state before data ex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low controll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er will not overwhelm rece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71680" y="1542600"/>
            <a:ext cx="4000320" cy="37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int-to-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sender, one receiver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liable, in-order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yte stre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“message boundarie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ipelin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P congestion and flow control set window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nd &amp; receive buff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8" name=""/>
          <p:cNvGraphicFramePr/>
          <p:nvPr/>
        </p:nvGraphicFramePr>
        <p:xfrm>
          <a:off x="-490680" y="5421240"/>
          <a:ext cx="6026400" cy="102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90680" y="5421240"/>
                    <a:ext cx="6026400" cy="10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CP Proper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am orientation. stream of OCTETS (bytes) passed between send/ rec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te stream is full dupl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nk of it as two independent streams joined with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iggybackin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ch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ggybacking - one data stream has control info for the other data stream (going the other wa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tructured str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CP doesn’t show packet boundaries to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you can still structure your message if you w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all usage with socke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write() call to sen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y require multiple read() ca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CP segment stru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3" name=""/>
          <p:cNvGrpSpPr/>
          <p:nvPr/>
        </p:nvGrpSpPr>
        <p:grpSpPr>
          <a:xfrm>
            <a:off x="2748240" y="1374840"/>
            <a:ext cx="4100040" cy="5330880"/>
            <a:chOff x="2748240" y="1374840"/>
            <a:chExt cx="4100040" cy="5330880"/>
          </a:xfrm>
        </p:grpSpPr>
        <p:sp>
          <p:nvSpPr>
            <p:cNvPr id="864" name=""/>
            <p:cNvSpPr/>
            <p:nvPr/>
          </p:nvSpPr>
          <p:spPr>
            <a:xfrm>
              <a:off x="2896920" y="1784520"/>
              <a:ext cx="3951360" cy="482436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811240" y="1900440"/>
              <a:ext cx="3951360" cy="4805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2894760" y="1865520"/>
              <a:ext cx="1787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source port #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997520" y="1870200"/>
              <a:ext cx="149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dest port #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814480" y="2274840"/>
              <a:ext cx="394668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808000" y="2654280"/>
              <a:ext cx="395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V="1">
              <a:off x="4754520" y="1900080"/>
              <a:ext cx="0" cy="39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278960" y="1374840"/>
              <a:ext cx="89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2 bi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297400" y="1616040"/>
              <a:ext cx="142704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>
              <a:off x="2788560" y="1627200"/>
              <a:ext cx="1341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805200" y="4845240"/>
              <a:ext cx="21222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ppl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data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(variable length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444840" y="2254320"/>
              <a:ext cx="24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sequence numb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817720" y="3035520"/>
              <a:ext cx="395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044520" y="2654280"/>
              <a:ext cx="340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cknowledgement numb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813040" y="3430800"/>
              <a:ext cx="3951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808000" y="3821040"/>
              <a:ext cx="395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808000" y="4383000"/>
              <a:ext cx="395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 flipV="1">
              <a:off x="4768560" y="3038040"/>
              <a:ext cx="5040" cy="77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4764600" y="3046320"/>
              <a:ext cx="196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rcvr window siz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4894920" y="3441600"/>
              <a:ext cx="182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tr urgent 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156120" y="3422880"/>
              <a:ext cx="125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hecksu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543200" y="307512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V="1">
              <a:off x="4611600" y="3028680"/>
              <a:ext cx="0" cy="39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V="1">
              <a:off x="4449600" y="3033360"/>
              <a:ext cx="0" cy="39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V="1">
              <a:off x="4282920" y="3033360"/>
              <a:ext cx="0" cy="39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flipV="1">
              <a:off x="4120920" y="3038400"/>
              <a:ext cx="0" cy="392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V="1">
              <a:off x="3963960" y="3033360"/>
              <a:ext cx="0" cy="39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V="1">
              <a:off x="3792240" y="3043080"/>
              <a:ext cx="0" cy="39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378680" y="307044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203720" y="3070440"/>
              <a:ext cx="30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038480" y="306540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883320" y="3065400"/>
              <a:ext cx="31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711960" y="3065400"/>
              <a:ext cx="32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748240" y="2971800"/>
              <a:ext cx="601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he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l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229560" y="2971800"/>
              <a:ext cx="586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no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u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V="1">
              <a:off x="3287520" y="3033360"/>
              <a:ext cx="0" cy="39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200040" y="3925800"/>
              <a:ext cx="313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Options (variable length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1" name=""/>
          <p:cNvSpPr/>
          <p:nvPr/>
        </p:nvSpPr>
        <p:spPr>
          <a:xfrm>
            <a:off x="361800" y="1703520"/>
            <a:ext cx="210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RG: urgent da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995760" y="2427120"/>
            <a:ext cx="137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CK: ACK #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al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30680" y="3103560"/>
            <a:ext cx="232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SH: push data n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generally not us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454680" y="3903840"/>
            <a:ext cx="202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ST, SYN, F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nection est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setup, teard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mmand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2371680" y="2071800"/>
            <a:ext cx="1495440" cy="961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2343240" y="2747880"/>
            <a:ext cx="1647720" cy="352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 flipV="1">
            <a:off x="2352600" y="3100320"/>
            <a:ext cx="1838520" cy="457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2390760" y="3376440"/>
            <a:ext cx="2314440" cy="704880"/>
          </a:xfrm>
          <a:custGeom>
            <a:avLst/>
            <a:gdLst/>
            <a:ahLst/>
            <a:rect l="l" t="t" r="r" b="b"/>
            <a:pathLst>
              <a:path w="1458" h="444">
                <a:moveTo>
                  <a:pt x="0" y="444"/>
                </a:moveTo>
                <a:lnTo>
                  <a:pt x="1248" y="0"/>
                </a:lnTo>
                <a:lnTo>
                  <a:pt x="1458" y="6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7435800" y="3284640"/>
            <a:ext cx="135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# by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cvr wil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 acce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7114680" y="1798560"/>
            <a:ext cx="185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un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y by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not segments!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996840" y="5237280"/>
            <a:ext cx="134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ecks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as in UD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 flipV="1">
            <a:off x="2266920" y="3700080"/>
            <a:ext cx="2104920" cy="1981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 flipH="1" flipV="1">
            <a:off x="6686280" y="3290400"/>
            <a:ext cx="809640" cy="466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 flipH="1">
            <a:off x="6620040" y="1995480"/>
            <a:ext cx="552240" cy="8859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H="1">
            <a:off x="6581520" y="1986120"/>
            <a:ext cx="571320" cy="523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"/>
          <p:cNvGrpSpPr/>
          <p:nvPr/>
        </p:nvGrpSpPr>
        <p:grpSpPr>
          <a:xfrm>
            <a:off x="6953040" y="4483080"/>
            <a:ext cx="1105920" cy="1212480"/>
            <a:chOff x="6953040" y="4483080"/>
            <a:chExt cx="1105920" cy="1212480"/>
          </a:xfrm>
        </p:grpSpPr>
        <p:sp>
          <p:nvSpPr>
            <p:cNvPr id="590" name=""/>
            <p:cNvSpPr/>
            <p:nvPr/>
          </p:nvSpPr>
          <p:spPr>
            <a:xfrm>
              <a:off x="7056720" y="4483080"/>
              <a:ext cx="973080" cy="11610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021080" y="4534200"/>
              <a:ext cx="972000" cy="1161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7017120" y="4778640"/>
              <a:ext cx="961560" cy="4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>
              <a:off x="7031160" y="5004000"/>
              <a:ext cx="961560" cy="4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7031160" y="5218920"/>
              <a:ext cx="961560" cy="4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7013520" y="5452920"/>
              <a:ext cx="961560" cy="4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953040" y="4538520"/>
              <a:ext cx="11059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applic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transp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6927840" y="4178160"/>
            <a:ext cx="743040" cy="439920"/>
            <a:chOff x="6927840" y="4178160"/>
            <a:chExt cx="743040" cy="439920"/>
          </a:xfrm>
        </p:grpSpPr>
        <p:sp>
          <p:nvSpPr>
            <p:cNvPr id="598" name=""/>
            <p:cNvSpPr/>
            <p:nvPr/>
          </p:nvSpPr>
          <p:spPr>
            <a:xfrm>
              <a:off x="6927840" y="4178160"/>
              <a:ext cx="743040" cy="439920"/>
            </a:xfrm>
            <a:custGeom>
              <a:avLst/>
              <a:gdLst/>
              <a:ahLst/>
              <a:rect l="l" t="t" r="r" b="b"/>
              <a:pathLst>
                <a:path w="468" h="277">
                  <a:moveTo>
                    <a:pt x="184" y="2"/>
                  </a:moveTo>
                  <a:cubicBezTo>
                    <a:pt x="144" y="3"/>
                    <a:pt x="122" y="15"/>
                    <a:pt x="94" y="20"/>
                  </a:cubicBezTo>
                  <a:cubicBezTo>
                    <a:pt x="66" y="25"/>
                    <a:pt x="30" y="16"/>
                    <a:pt x="15" y="35"/>
                  </a:cubicBezTo>
                  <a:cubicBezTo>
                    <a:pt x="0" y="54"/>
                    <a:pt x="1" y="109"/>
                    <a:pt x="4" y="133"/>
                  </a:cubicBezTo>
                  <a:cubicBezTo>
                    <a:pt x="7" y="157"/>
                    <a:pt x="17" y="163"/>
                    <a:pt x="34" y="179"/>
                  </a:cubicBezTo>
                  <a:cubicBezTo>
                    <a:pt x="51" y="195"/>
                    <a:pt x="75" y="217"/>
                    <a:pt x="106" y="230"/>
                  </a:cubicBezTo>
                  <a:cubicBezTo>
                    <a:pt x="137" y="243"/>
                    <a:pt x="166" y="255"/>
                    <a:pt x="220" y="258"/>
                  </a:cubicBezTo>
                  <a:cubicBezTo>
                    <a:pt x="274" y="261"/>
                    <a:pt x="393" y="277"/>
                    <a:pt x="431" y="248"/>
                  </a:cubicBezTo>
                  <a:cubicBezTo>
                    <a:pt x="468" y="220"/>
                    <a:pt x="447" y="125"/>
                    <a:pt x="445" y="87"/>
                  </a:cubicBezTo>
                  <a:cubicBezTo>
                    <a:pt x="444" y="48"/>
                    <a:pt x="450" y="31"/>
                    <a:pt x="420" y="17"/>
                  </a:cubicBezTo>
                  <a:cubicBezTo>
                    <a:pt x="389" y="2"/>
                    <a:pt x="277" y="0"/>
                    <a:pt x="263" y="0"/>
                  </a:cubicBezTo>
                  <a:cubicBezTo>
                    <a:pt x="249" y="0"/>
                    <a:pt x="347" y="14"/>
                    <a:pt x="334" y="14"/>
                  </a:cubicBezTo>
                  <a:cubicBezTo>
                    <a:pt x="321" y="14"/>
                    <a:pt x="215" y="4"/>
                    <a:pt x="184" y="2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089840" y="4273560"/>
              <a:ext cx="438120" cy="196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0" name=""/>
          <p:cNvSpPr/>
          <p:nvPr/>
        </p:nvSpPr>
        <p:spPr>
          <a:xfrm>
            <a:off x="7570440" y="4059360"/>
            <a:ext cx="4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4329360" y="3816360"/>
            <a:ext cx="1232280" cy="1308240"/>
            <a:chOff x="4329360" y="3816360"/>
            <a:chExt cx="1232280" cy="1308240"/>
          </a:xfrm>
        </p:grpSpPr>
        <p:sp>
          <p:nvSpPr>
            <p:cNvPr id="602" name=""/>
            <p:cNvSpPr/>
            <p:nvPr/>
          </p:nvSpPr>
          <p:spPr>
            <a:xfrm>
              <a:off x="4425120" y="3816360"/>
              <a:ext cx="1127520" cy="12524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383720" y="3871800"/>
              <a:ext cx="1126080" cy="1252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4379400" y="4134960"/>
              <a:ext cx="111420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4395240" y="4377960"/>
              <a:ext cx="111420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4395240" y="4609800"/>
              <a:ext cx="111420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4374720" y="4862160"/>
              <a:ext cx="111420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329360" y="3851280"/>
              <a:ext cx="12322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transpo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exing/demultipl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99960" y="1143000"/>
            <a:ext cx="3810240" cy="18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all: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gment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unit of data exchanged between transport layer entit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TPDU: transport protocol data unit or “packet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330440" y="301140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ce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434960" y="4873680"/>
            <a:ext cx="673200" cy="1951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441440" y="5113440"/>
            <a:ext cx="679320" cy="196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366920" y="483084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481040" y="486576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1143000" y="5081760"/>
            <a:ext cx="331560" cy="306360"/>
            <a:chOff x="1143000" y="5081760"/>
            <a:chExt cx="331560" cy="306360"/>
          </a:xfrm>
        </p:grpSpPr>
        <p:sp>
          <p:nvSpPr>
            <p:cNvPr id="617" name=""/>
            <p:cNvSpPr/>
            <p:nvPr/>
          </p:nvSpPr>
          <p:spPr>
            <a:xfrm>
              <a:off x="1203120" y="5113080"/>
              <a:ext cx="241200" cy="196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143000" y="508176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258920" y="5111640"/>
              <a:ext cx="21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0" name=""/>
          <p:cNvSpPr/>
          <p:nvPr/>
        </p:nvSpPr>
        <p:spPr>
          <a:xfrm>
            <a:off x="4657680" y="1598760"/>
            <a:ext cx="3454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Demultiplexing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deliver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ceived segments 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rrect app layer proc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572000" y="1571760"/>
            <a:ext cx="3753000" cy="1143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380240" y="5065560"/>
            <a:ext cx="81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mic Sans MS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49480" y="4749840"/>
            <a:ext cx="101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seg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671480" y="4876920"/>
            <a:ext cx="0" cy="193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657440" y="4873680"/>
            <a:ext cx="4381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2100240" y="4530600"/>
            <a:ext cx="1232280" cy="1308240"/>
            <a:chOff x="2100240" y="4530600"/>
            <a:chExt cx="1232280" cy="1308240"/>
          </a:xfrm>
        </p:grpSpPr>
        <p:sp>
          <p:nvSpPr>
            <p:cNvPr id="627" name=""/>
            <p:cNvSpPr/>
            <p:nvPr/>
          </p:nvSpPr>
          <p:spPr>
            <a:xfrm>
              <a:off x="2196000" y="4530600"/>
              <a:ext cx="1127880" cy="12524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154600" y="4586040"/>
              <a:ext cx="1126440" cy="1252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2150280" y="4849200"/>
              <a:ext cx="111420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2166120" y="5092200"/>
              <a:ext cx="111456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V="1">
              <a:off x="2166120" y="5324040"/>
              <a:ext cx="111456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2145600" y="5576400"/>
              <a:ext cx="111420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100240" y="4565520"/>
              <a:ext cx="12322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transpo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4" name=""/>
          <p:cNvSpPr/>
          <p:nvPr/>
        </p:nvSpPr>
        <p:spPr>
          <a:xfrm>
            <a:off x="2227680" y="4040280"/>
            <a:ext cx="4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2098800" y="4330800"/>
            <a:ext cx="742680" cy="439560"/>
            <a:chOff x="2098800" y="4330800"/>
            <a:chExt cx="742680" cy="439560"/>
          </a:xfrm>
        </p:grpSpPr>
        <p:sp>
          <p:nvSpPr>
            <p:cNvPr id="636" name=""/>
            <p:cNvSpPr/>
            <p:nvPr/>
          </p:nvSpPr>
          <p:spPr>
            <a:xfrm>
              <a:off x="2098800" y="4330800"/>
              <a:ext cx="742680" cy="439560"/>
            </a:xfrm>
            <a:custGeom>
              <a:avLst/>
              <a:gdLst/>
              <a:ahLst/>
              <a:rect l="l" t="t" r="r" b="b"/>
              <a:pathLst>
                <a:path w="468" h="277">
                  <a:moveTo>
                    <a:pt x="184" y="2"/>
                  </a:moveTo>
                  <a:cubicBezTo>
                    <a:pt x="144" y="3"/>
                    <a:pt x="122" y="15"/>
                    <a:pt x="94" y="20"/>
                  </a:cubicBezTo>
                  <a:cubicBezTo>
                    <a:pt x="66" y="25"/>
                    <a:pt x="30" y="16"/>
                    <a:pt x="15" y="35"/>
                  </a:cubicBezTo>
                  <a:cubicBezTo>
                    <a:pt x="0" y="54"/>
                    <a:pt x="1" y="109"/>
                    <a:pt x="4" y="133"/>
                  </a:cubicBezTo>
                  <a:cubicBezTo>
                    <a:pt x="7" y="157"/>
                    <a:pt x="17" y="163"/>
                    <a:pt x="34" y="179"/>
                  </a:cubicBezTo>
                  <a:cubicBezTo>
                    <a:pt x="51" y="195"/>
                    <a:pt x="75" y="217"/>
                    <a:pt x="106" y="230"/>
                  </a:cubicBezTo>
                  <a:cubicBezTo>
                    <a:pt x="137" y="243"/>
                    <a:pt x="166" y="255"/>
                    <a:pt x="220" y="258"/>
                  </a:cubicBezTo>
                  <a:cubicBezTo>
                    <a:pt x="274" y="261"/>
                    <a:pt x="393" y="277"/>
                    <a:pt x="431" y="248"/>
                  </a:cubicBezTo>
                  <a:cubicBezTo>
                    <a:pt x="468" y="220"/>
                    <a:pt x="447" y="125"/>
                    <a:pt x="445" y="87"/>
                  </a:cubicBezTo>
                  <a:cubicBezTo>
                    <a:pt x="444" y="48"/>
                    <a:pt x="450" y="31"/>
                    <a:pt x="420" y="17"/>
                  </a:cubicBezTo>
                  <a:cubicBezTo>
                    <a:pt x="389" y="2"/>
                    <a:pt x="277" y="0"/>
                    <a:pt x="263" y="0"/>
                  </a:cubicBezTo>
                  <a:cubicBezTo>
                    <a:pt x="249" y="0"/>
                    <a:pt x="347" y="14"/>
                    <a:pt x="334" y="14"/>
                  </a:cubicBezTo>
                  <a:cubicBezTo>
                    <a:pt x="321" y="14"/>
                    <a:pt x="215" y="4"/>
                    <a:pt x="184" y="2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260440" y="4425840"/>
              <a:ext cx="437760" cy="196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8" name=""/>
          <p:cNvSpPr/>
          <p:nvPr/>
        </p:nvSpPr>
        <p:spPr>
          <a:xfrm>
            <a:off x="2397240" y="3919680"/>
            <a:ext cx="2385720" cy="2081160"/>
          </a:xfrm>
          <a:custGeom>
            <a:avLst/>
            <a:gdLst/>
            <a:ahLst/>
            <a:rect l="l" t="t" r="r" b="b"/>
            <a:pathLst>
              <a:path w="1503" h="1311">
                <a:moveTo>
                  <a:pt x="0" y="502"/>
                </a:moveTo>
                <a:lnTo>
                  <a:pt x="0" y="1311"/>
                </a:lnTo>
                <a:lnTo>
                  <a:pt x="1503" y="1308"/>
                </a:lnTo>
                <a:lnTo>
                  <a:pt x="1502" y="237"/>
                </a:lnTo>
                <a:lnTo>
                  <a:pt x="1406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4051440" y="3483000"/>
            <a:ext cx="742680" cy="439560"/>
            <a:chOff x="4051440" y="3483000"/>
            <a:chExt cx="742680" cy="439560"/>
          </a:xfrm>
        </p:grpSpPr>
        <p:sp>
          <p:nvSpPr>
            <p:cNvPr id="640" name=""/>
            <p:cNvSpPr/>
            <p:nvPr/>
          </p:nvSpPr>
          <p:spPr>
            <a:xfrm>
              <a:off x="4051440" y="3483000"/>
              <a:ext cx="742680" cy="439560"/>
            </a:xfrm>
            <a:custGeom>
              <a:avLst/>
              <a:gdLst/>
              <a:ahLst/>
              <a:rect l="l" t="t" r="r" b="b"/>
              <a:pathLst>
                <a:path w="468" h="277">
                  <a:moveTo>
                    <a:pt x="184" y="2"/>
                  </a:moveTo>
                  <a:cubicBezTo>
                    <a:pt x="144" y="3"/>
                    <a:pt x="122" y="15"/>
                    <a:pt x="94" y="20"/>
                  </a:cubicBezTo>
                  <a:cubicBezTo>
                    <a:pt x="66" y="25"/>
                    <a:pt x="30" y="16"/>
                    <a:pt x="15" y="35"/>
                  </a:cubicBezTo>
                  <a:cubicBezTo>
                    <a:pt x="0" y="54"/>
                    <a:pt x="1" y="109"/>
                    <a:pt x="4" y="133"/>
                  </a:cubicBezTo>
                  <a:cubicBezTo>
                    <a:pt x="7" y="157"/>
                    <a:pt x="17" y="163"/>
                    <a:pt x="34" y="179"/>
                  </a:cubicBezTo>
                  <a:cubicBezTo>
                    <a:pt x="51" y="195"/>
                    <a:pt x="75" y="217"/>
                    <a:pt x="106" y="230"/>
                  </a:cubicBezTo>
                  <a:cubicBezTo>
                    <a:pt x="137" y="243"/>
                    <a:pt x="166" y="255"/>
                    <a:pt x="220" y="258"/>
                  </a:cubicBezTo>
                  <a:cubicBezTo>
                    <a:pt x="274" y="261"/>
                    <a:pt x="393" y="277"/>
                    <a:pt x="431" y="248"/>
                  </a:cubicBezTo>
                  <a:cubicBezTo>
                    <a:pt x="468" y="220"/>
                    <a:pt x="447" y="125"/>
                    <a:pt x="445" y="87"/>
                  </a:cubicBezTo>
                  <a:cubicBezTo>
                    <a:pt x="444" y="48"/>
                    <a:pt x="450" y="31"/>
                    <a:pt x="420" y="17"/>
                  </a:cubicBezTo>
                  <a:cubicBezTo>
                    <a:pt x="389" y="2"/>
                    <a:pt x="277" y="0"/>
                    <a:pt x="263" y="0"/>
                  </a:cubicBezTo>
                  <a:cubicBezTo>
                    <a:pt x="249" y="0"/>
                    <a:pt x="347" y="14"/>
                    <a:pt x="334" y="14"/>
                  </a:cubicBezTo>
                  <a:cubicBezTo>
                    <a:pt x="321" y="14"/>
                    <a:pt x="215" y="4"/>
                    <a:pt x="184" y="2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213080" y="3578040"/>
              <a:ext cx="437760" cy="196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2" name=""/>
          <p:cNvSpPr/>
          <p:nvPr/>
        </p:nvSpPr>
        <p:spPr>
          <a:xfrm>
            <a:off x="4886280" y="3843360"/>
            <a:ext cx="2428920" cy="1995480"/>
          </a:xfrm>
          <a:custGeom>
            <a:avLst/>
            <a:gdLst/>
            <a:ahLst/>
            <a:rect l="l" t="t" r="r" b="b"/>
            <a:pathLst>
              <a:path w="1530" h="1257">
                <a:moveTo>
                  <a:pt x="1525" y="458"/>
                </a:moveTo>
                <a:lnTo>
                  <a:pt x="1530" y="1257"/>
                </a:lnTo>
                <a:lnTo>
                  <a:pt x="0" y="1257"/>
                </a:lnTo>
                <a:lnTo>
                  <a:pt x="0" y="235"/>
                </a:lnTo>
                <a:lnTo>
                  <a:pt x="156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94280" y="3492360"/>
            <a:ext cx="743040" cy="439920"/>
            <a:chOff x="4994280" y="3492360"/>
            <a:chExt cx="743040" cy="439920"/>
          </a:xfrm>
        </p:grpSpPr>
        <p:sp>
          <p:nvSpPr>
            <p:cNvPr id="644" name=""/>
            <p:cNvSpPr/>
            <p:nvPr/>
          </p:nvSpPr>
          <p:spPr>
            <a:xfrm>
              <a:off x="4994280" y="3492360"/>
              <a:ext cx="743040" cy="439920"/>
            </a:xfrm>
            <a:custGeom>
              <a:avLst/>
              <a:gdLst/>
              <a:ahLst/>
              <a:rect l="l" t="t" r="r" b="b"/>
              <a:pathLst>
                <a:path w="468" h="277">
                  <a:moveTo>
                    <a:pt x="184" y="2"/>
                  </a:moveTo>
                  <a:cubicBezTo>
                    <a:pt x="144" y="3"/>
                    <a:pt x="122" y="15"/>
                    <a:pt x="94" y="20"/>
                  </a:cubicBezTo>
                  <a:cubicBezTo>
                    <a:pt x="66" y="25"/>
                    <a:pt x="30" y="16"/>
                    <a:pt x="15" y="35"/>
                  </a:cubicBezTo>
                  <a:cubicBezTo>
                    <a:pt x="0" y="54"/>
                    <a:pt x="1" y="109"/>
                    <a:pt x="4" y="133"/>
                  </a:cubicBezTo>
                  <a:cubicBezTo>
                    <a:pt x="7" y="157"/>
                    <a:pt x="17" y="163"/>
                    <a:pt x="34" y="179"/>
                  </a:cubicBezTo>
                  <a:cubicBezTo>
                    <a:pt x="51" y="195"/>
                    <a:pt x="75" y="217"/>
                    <a:pt x="106" y="230"/>
                  </a:cubicBezTo>
                  <a:cubicBezTo>
                    <a:pt x="137" y="243"/>
                    <a:pt x="166" y="255"/>
                    <a:pt x="220" y="258"/>
                  </a:cubicBezTo>
                  <a:cubicBezTo>
                    <a:pt x="274" y="261"/>
                    <a:pt x="393" y="277"/>
                    <a:pt x="431" y="248"/>
                  </a:cubicBezTo>
                  <a:cubicBezTo>
                    <a:pt x="468" y="220"/>
                    <a:pt x="447" y="125"/>
                    <a:pt x="445" y="87"/>
                  </a:cubicBezTo>
                  <a:cubicBezTo>
                    <a:pt x="444" y="48"/>
                    <a:pt x="450" y="31"/>
                    <a:pt x="420" y="17"/>
                  </a:cubicBezTo>
                  <a:cubicBezTo>
                    <a:pt x="389" y="2"/>
                    <a:pt x="277" y="0"/>
                    <a:pt x="263" y="0"/>
                  </a:cubicBezTo>
                  <a:cubicBezTo>
                    <a:pt x="249" y="0"/>
                    <a:pt x="347" y="14"/>
                    <a:pt x="334" y="14"/>
                  </a:cubicBezTo>
                  <a:cubicBezTo>
                    <a:pt x="321" y="14"/>
                    <a:pt x="215" y="4"/>
                    <a:pt x="184" y="2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156280" y="3587760"/>
              <a:ext cx="438120" cy="196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3722400" y="3254400"/>
            <a:ext cx="4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P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608080" y="3325680"/>
            <a:ext cx="4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P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181160" y="4962600"/>
            <a:ext cx="209520" cy="9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06880" y="4016520"/>
            <a:ext cx="101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seg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285920" y="4362480"/>
            <a:ext cx="247680" cy="485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657440" y="3800520"/>
            <a:ext cx="190440" cy="10573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073160" y="343548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application-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CP Fiel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, Destination Port: 16 bits e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quence Number: 32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 # of first data octet in the segment, initialized randomly as described earl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K Number: 32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ggybacked ACK, contains sequence number of the next data octet the receiver exp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der Len: 4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32 bit words in the h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Used: 6 bits for future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CP Fiel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853452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ags – 6 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RG – Urgent Pointer field signific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K – Ack field signific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SH – Push  (flush or “push” buffer now, send data to ap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ST – Reset conn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N – Synchronize sequence nu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 – No more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ndow – 16 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ow control credit al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ecksum – 16 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’s complement sum as in U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rgent Pointer – 16 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st octet in a seq of “urgent” data.   Sometimes not interpreted.  Urgent data should be processed now, even before any data sitting in the buffer (e.g. send control-c to termina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s –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ort for timestamping, negotiating M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"/>
          <p:cNvSpPr/>
          <p:nvPr/>
        </p:nvSpPr>
        <p:spPr>
          <a:xfrm>
            <a:off x="4971960" y="4686480"/>
            <a:ext cx="2791080" cy="5619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896000" y="2238480"/>
            <a:ext cx="2619360" cy="5713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CP seq. #’s and A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352080" y="1295280"/>
            <a:ext cx="3257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Seq. #’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te stream “number” of first byte in segment’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ACK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q # of next byte expected from other s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mulative 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Q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ow does the receiver handles out-of-order segment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: TCP spec doesn’t say, - up to implem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4" name="" descr=""/>
          <p:cNvPicPr/>
          <p:nvPr/>
        </p:nvPicPr>
        <p:blipFill>
          <a:blip r:embed="rId1"/>
          <a:stretch/>
        </p:blipFill>
        <p:spPr>
          <a:xfrm>
            <a:off x="4133880" y="1407960"/>
            <a:ext cx="606240" cy="481320"/>
          </a:xfrm>
          <a:prstGeom prst="rect">
            <a:avLst/>
          </a:prstGeom>
          <a:ln w="0">
            <a:noFill/>
          </a:ln>
        </p:spPr>
      </p:pic>
      <p:pic>
        <p:nvPicPr>
          <p:cNvPr id="925" name="" descr=""/>
          <p:cNvPicPr/>
          <p:nvPr/>
        </p:nvPicPr>
        <p:blipFill>
          <a:blip r:embed="rId2"/>
          <a:stretch/>
        </p:blipFill>
        <p:spPr>
          <a:xfrm>
            <a:off x="7658280" y="1322280"/>
            <a:ext cx="606240" cy="480960"/>
          </a:xfrm>
          <a:prstGeom prst="rect">
            <a:avLst/>
          </a:prstGeom>
          <a:ln w="0">
            <a:noFill/>
          </a:ln>
        </p:spPr>
      </p:pic>
      <p:sp>
        <p:nvSpPr>
          <p:cNvPr id="926" name=""/>
          <p:cNvSpPr/>
          <p:nvPr/>
        </p:nvSpPr>
        <p:spPr>
          <a:xfrm>
            <a:off x="4807440" y="14605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6787080" y="1450800"/>
            <a:ext cx="88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rot="706200">
            <a:off x="4976640" y="2220480"/>
            <a:ext cx="24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q=42, ACK=79, data = ‘C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rot="20755200">
            <a:off x="5032440" y="3278160"/>
            <a:ext cx="24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q=79, ACK=43, data = ‘C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rot="683400">
            <a:off x="5097240" y="4519080"/>
            <a:ext cx="15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q=43, ACK=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4026960" y="1932120"/>
            <a:ext cx="694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p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812400" y="4046400"/>
            <a:ext cx="1131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ost 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ceip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f echo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7495560" y="2589120"/>
            <a:ext cx="1157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ost 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ceipt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’, ech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ack ‘C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flipH="1">
            <a:off x="4886280" y="3200400"/>
            <a:ext cx="2610000" cy="8002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8620200" y="1714680"/>
            <a:ext cx="0" cy="4514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6" name=""/>
          <p:cNvGrpSpPr/>
          <p:nvPr/>
        </p:nvGrpSpPr>
        <p:grpSpPr>
          <a:xfrm>
            <a:off x="8289720" y="5527800"/>
            <a:ext cx="665280" cy="368280"/>
            <a:chOff x="8289720" y="5527800"/>
            <a:chExt cx="665280" cy="368280"/>
          </a:xfrm>
        </p:grpSpPr>
        <p:sp>
          <p:nvSpPr>
            <p:cNvPr id="937" name=""/>
            <p:cNvSpPr/>
            <p:nvPr/>
          </p:nvSpPr>
          <p:spPr>
            <a:xfrm>
              <a:off x="8353080" y="5600520"/>
              <a:ext cx="514440" cy="24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8289720" y="5527800"/>
              <a:ext cx="66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9" name=""/>
          <p:cNvSpPr/>
          <p:nvPr/>
        </p:nvSpPr>
        <p:spPr>
          <a:xfrm>
            <a:off x="5376600" y="5794200"/>
            <a:ext cx="254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ple telnet scen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5949000" y="365760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e piggybacking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"/>
          <p:cNvSpPr/>
          <p:nvPr/>
        </p:nvSpPr>
        <p:spPr>
          <a:xfrm flipH="1">
            <a:off x="5810040" y="3143160"/>
            <a:ext cx="2476440" cy="11048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H="1">
            <a:off x="5349600" y="2374920"/>
            <a:ext cx="422280" cy="6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5546880" y="2273400"/>
            <a:ext cx="203040" cy="132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flipH="1">
            <a:off x="5781240" y="2733840"/>
            <a:ext cx="2543400" cy="13809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 rot="728400">
            <a:off x="6075000" y="3814920"/>
            <a:ext cx="1817640" cy="28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752040" y="161640"/>
            <a:ext cx="736308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CP: retransmission scenari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7" name=""/>
          <p:cNvGrpSpPr/>
          <p:nvPr/>
        </p:nvGrpSpPr>
        <p:grpSpPr>
          <a:xfrm>
            <a:off x="155520" y="1389240"/>
            <a:ext cx="3489120" cy="4821120"/>
            <a:chOff x="155520" y="1389240"/>
            <a:chExt cx="3489120" cy="4821120"/>
          </a:xfrm>
        </p:grpSpPr>
        <p:sp>
          <p:nvSpPr>
            <p:cNvPr id="948" name=""/>
            <p:cNvSpPr/>
            <p:nvPr/>
          </p:nvSpPr>
          <p:spPr>
            <a:xfrm flipH="1">
              <a:off x="1857240" y="2781360"/>
              <a:ext cx="1581120" cy="4856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914400" y="2057400"/>
              <a:ext cx="2533320" cy="5907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50" name="" descr=""/>
            <p:cNvPicPr/>
            <p:nvPr/>
          </p:nvPicPr>
          <p:blipFill>
            <a:blip r:embed="rId1"/>
            <a:stretch/>
          </p:blipFill>
          <p:spPr>
            <a:xfrm>
              <a:off x="501480" y="1389240"/>
              <a:ext cx="485640" cy="38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"/>
            <p:cNvSpPr/>
            <p:nvPr/>
          </p:nvSpPr>
          <p:spPr>
            <a:xfrm>
              <a:off x="932040" y="1389240"/>
              <a:ext cx="807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Host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rot="706200">
              <a:off x="1290600" y="2068560"/>
              <a:ext cx="187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q=92, 8 bytes 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rot="20617200">
              <a:off x="2182320" y="2754000"/>
              <a:ext cx="94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K=1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1495440" y="3317760"/>
              <a:ext cx="59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lo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 rot="16200000">
              <a:off x="249840" y="2864160"/>
              <a:ext cx="92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time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485640" y="1695600"/>
              <a:ext cx="0" cy="4514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7" name=""/>
            <p:cNvGrpSpPr/>
            <p:nvPr/>
          </p:nvGrpSpPr>
          <p:grpSpPr>
            <a:xfrm>
              <a:off x="155520" y="5508720"/>
              <a:ext cx="665280" cy="368280"/>
              <a:chOff x="155520" y="5508720"/>
              <a:chExt cx="665280" cy="368280"/>
            </a:xfrm>
          </p:grpSpPr>
          <p:sp>
            <p:nvSpPr>
              <p:cNvPr id="958" name=""/>
              <p:cNvSpPr/>
              <p:nvPr/>
            </p:nvSpPr>
            <p:spPr>
              <a:xfrm>
                <a:off x="218880" y="5581440"/>
                <a:ext cx="514440" cy="24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155520" y="5508720"/>
                <a:ext cx="665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Comic Sans MS"/>
                  </a:rPr>
                  <a:t>ti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0" name=""/>
            <p:cNvSpPr/>
            <p:nvPr/>
          </p:nvSpPr>
          <p:spPr>
            <a:xfrm>
              <a:off x="1157760" y="5622840"/>
              <a:ext cx="203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ost ACK scenar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61" name="" descr=""/>
            <p:cNvPicPr/>
            <p:nvPr/>
          </p:nvPicPr>
          <p:blipFill>
            <a:blip r:embed="rId2"/>
            <a:stretch/>
          </p:blipFill>
          <p:spPr>
            <a:xfrm>
              <a:off x="3159000" y="1398600"/>
              <a:ext cx="485640" cy="3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2" name=""/>
            <p:cNvSpPr/>
            <p:nvPr/>
          </p:nvSpPr>
          <p:spPr>
            <a:xfrm>
              <a:off x="2445120" y="1408320"/>
              <a:ext cx="80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Host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1608120" y="30402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914400" y="3924360"/>
              <a:ext cx="2533320" cy="5904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 rot="706200">
              <a:off x="1204920" y="3868920"/>
              <a:ext cx="187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q=92, 8 bytes 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904680" y="1838520"/>
              <a:ext cx="0" cy="384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419280" y="1838520"/>
              <a:ext cx="0" cy="384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 flipH="1">
              <a:off x="923760" y="4705560"/>
              <a:ext cx="2495520" cy="7524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rot="20673000">
              <a:off x="1733760" y="4789080"/>
              <a:ext cx="966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K=1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flipV="1">
              <a:off x="733320" y="2037960"/>
              <a:ext cx="0" cy="60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742680" y="3438720"/>
              <a:ext cx="0" cy="475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2" name=""/>
          <p:cNvSpPr/>
          <p:nvPr/>
        </p:nvSpPr>
        <p:spPr>
          <a:xfrm>
            <a:off x="5800680" y="2009880"/>
            <a:ext cx="2533680" cy="590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3" name="" descr=""/>
          <p:cNvPicPr/>
          <p:nvPr/>
        </p:nvPicPr>
        <p:blipFill>
          <a:blip r:embed="rId3"/>
          <a:stretch/>
        </p:blipFill>
        <p:spPr>
          <a:xfrm>
            <a:off x="5388120" y="1341360"/>
            <a:ext cx="485640" cy="385920"/>
          </a:xfrm>
          <a:prstGeom prst="rect">
            <a:avLst/>
          </a:prstGeom>
          <a:ln w="0">
            <a:noFill/>
          </a:ln>
        </p:spPr>
      </p:pic>
      <p:sp>
        <p:nvSpPr>
          <p:cNvPr id="974" name=""/>
          <p:cNvSpPr/>
          <p:nvPr/>
        </p:nvSpPr>
        <p:spPr>
          <a:xfrm>
            <a:off x="5818680" y="1341360"/>
            <a:ext cx="80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 rot="808200">
            <a:off x="5979240" y="2421000"/>
            <a:ext cx="207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q=100, 20 bytes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 rot="19829400">
            <a:off x="6745680" y="3068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K=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 rot="16200000">
            <a:off x="4872600" y="2783880"/>
            <a:ext cx="149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q=92 time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"/>
          <p:cNvGrpSpPr/>
          <p:nvPr/>
        </p:nvGrpSpPr>
        <p:grpSpPr>
          <a:xfrm>
            <a:off x="5041800" y="5460840"/>
            <a:ext cx="665280" cy="368280"/>
            <a:chOff x="5041800" y="5460840"/>
            <a:chExt cx="665280" cy="368280"/>
          </a:xfrm>
        </p:grpSpPr>
        <p:sp>
          <p:nvSpPr>
            <p:cNvPr id="979" name=""/>
            <p:cNvSpPr/>
            <p:nvPr/>
          </p:nvSpPr>
          <p:spPr>
            <a:xfrm>
              <a:off x="5105160" y="5533920"/>
              <a:ext cx="51444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041800" y="5460840"/>
              <a:ext cx="66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1" name=""/>
          <p:cNvSpPr/>
          <p:nvPr/>
        </p:nvSpPr>
        <p:spPr>
          <a:xfrm>
            <a:off x="5915880" y="5575320"/>
            <a:ext cx="230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emature timeout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umulative A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2" name="" descr=""/>
          <p:cNvPicPr/>
          <p:nvPr/>
        </p:nvPicPr>
        <p:blipFill>
          <a:blip r:embed="rId4"/>
          <a:stretch/>
        </p:blipFill>
        <p:spPr>
          <a:xfrm>
            <a:off x="8045280" y="1351080"/>
            <a:ext cx="486000" cy="385560"/>
          </a:xfrm>
          <a:prstGeom prst="rect">
            <a:avLst/>
          </a:prstGeom>
          <a:ln w="0">
            <a:noFill/>
          </a:ln>
        </p:spPr>
      </p:pic>
      <p:sp>
        <p:nvSpPr>
          <p:cNvPr id="983" name=""/>
          <p:cNvSpPr/>
          <p:nvPr/>
        </p:nvSpPr>
        <p:spPr>
          <a:xfrm>
            <a:off x="7331760" y="1360440"/>
            <a:ext cx="80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800680" y="3876840"/>
            <a:ext cx="2533680" cy="590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 rot="706200">
            <a:off x="6062760" y="3792600"/>
            <a:ext cx="187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q=92, 8 bytes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5791320" y="1790640"/>
            <a:ext cx="6120" cy="382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8305920" y="1790640"/>
            <a:ext cx="0" cy="384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 rot="20261400">
            <a:off x="7106040" y="3179520"/>
            <a:ext cx="96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K=1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 flipV="1">
            <a:off x="5638680" y="2015640"/>
            <a:ext cx="6480" cy="244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5629320" y="3645000"/>
            <a:ext cx="0" cy="222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788080" y="2362320"/>
            <a:ext cx="2508120" cy="6285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 rot="706200">
            <a:off x="6091560" y="2011320"/>
            <a:ext cx="187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q=92, 8 bytes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flipH="1">
            <a:off x="5613480" y="3876840"/>
            <a:ext cx="18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 flipH="1">
            <a:off x="5594040" y="2016000"/>
            <a:ext cx="181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flipH="1">
            <a:off x="5368680" y="4387680"/>
            <a:ext cx="422280" cy="6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rot="16200000">
            <a:off x="4585320" y="320796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q=100 time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V="1">
            <a:off x="5378400" y="2371680"/>
            <a:ext cx="6480" cy="29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5388120" y="408924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 flipH="1">
            <a:off x="5816160" y="4521240"/>
            <a:ext cx="2476440" cy="11048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rot="20261400">
            <a:off x="6921720" y="4608000"/>
            <a:ext cx="9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K=1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126520" y="6248520"/>
            <a:ext cx="68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er must be smart enough to ignore duplicate 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"/>
          <p:cNvSpPr/>
          <p:nvPr/>
        </p:nvSpPr>
        <p:spPr>
          <a:xfrm>
            <a:off x="895320" y="1504800"/>
            <a:ext cx="3057480" cy="14288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CP Flow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219280" y="1314360"/>
            <a:ext cx="33339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ceiv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licitly informs sender of (dynamically changing) amount of free buffer spa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cvWindow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e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CP se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nd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keeps the amount of transmitted, unACKed data less than most recently receive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cv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981000" y="1655640"/>
            <a:ext cx="2871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nder won’t overr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ceiver’s buffers 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nsmitting too much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o f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6" name=""/>
          <p:cNvGrpSpPr/>
          <p:nvPr/>
        </p:nvGrpSpPr>
        <p:grpSpPr>
          <a:xfrm>
            <a:off x="962640" y="1274760"/>
            <a:ext cx="1886040" cy="459720"/>
            <a:chOff x="962640" y="1274760"/>
            <a:chExt cx="1886040" cy="459720"/>
          </a:xfrm>
        </p:grpSpPr>
        <p:sp>
          <p:nvSpPr>
            <p:cNvPr id="1007" name=""/>
            <p:cNvSpPr/>
            <p:nvPr/>
          </p:nvSpPr>
          <p:spPr>
            <a:xfrm>
              <a:off x="1018800" y="1314360"/>
              <a:ext cx="1800360" cy="35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962640" y="1274760"/>
              <a:ext cx="188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flow contr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09" name="rcvwin" descr=""/>
          <p:cNvPicPr/>
          <p:nvPr/>
        </p:nvPicPr>
        <p:blipFill>
          <a:blip r:embed="rId1"/>
          <a:stretch/>
        </p:blipFill>
        <p:spPr>
          <a:xfrm>
            <a:off x="268200" y="4176720"/>
            <a:ext cx="4800600" cy="1752480"/>
          </a:xfrm>
          <a:prstGeom prst="rect">
            <a:avLst/>
          </a:prstGeom>
          <a:ln w="0">
            <a:noFill/>
          </a:ln>
        </p:spPr>
      </p:pic>
      <p:sp>
        <p:nvSpPr>
          <p:cNvPr id="1010" name=""/>
          <p:cNvSpPr/>
          <p:nvPr/>
        </p:nvSpPr>
        <p:spPr>
          <a:xfrm>
            <a:off x="1401480" y="6064200"/>
            <a:ext cx="21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ceiver buff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77120" y="3262320"/>
            <a:ext cx="4024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cvBuffe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= size or TCP Receive 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cvWindow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= amount of spare room in Buffer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542880" y="13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CP Round Trip Time and Timeo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361440" y="1304640"/>
            <a:ext cx="362268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ow to set TCP timeout valu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er than R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RTT will v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short: premature time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necessary retrans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long: slow reaction to segment lo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200120" y="1352520"/>
            <a:ext cx="450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ow to estimate RT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ampleRT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asured time from segment transmission until ACK rece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gnore retransmissions, cumulatively ACKed seg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ampleRT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ll vary, want estimated RTT “smoothe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everal recent measurements, not just curre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ampleR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42880" y="13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CP Round Trip Time and Timeo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664920" y="1463760"/>
            <a:ext cx="73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stimatedRTT = (1-x)*EstimatedRTT + x*SampleR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1390680" y="1914480"/>
            <a:ext cx="706752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onential weighted moving ave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luence of given sample decreases exponential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 value of x: 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6840" y="4038480"/>
            <a:ext cx="8185320" cy="15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Setting the time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stimatedRT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lus “safety margi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 variation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stimatedRTT -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arger safety mar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1677960" y="5638680"/>
            <a:ext cx="566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imeout = EstimatedRTT + 4*Dev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CP Connection Manag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Three way handshak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Step 1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ent end system sends TCP SYN control segment to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s initial seq #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Step 2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er end system receives SYN, replies with SYNACK control seg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Ks received SY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cates buff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s server-&gt; receiver initial seq. #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590400" y="51408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CP Connection Management (cont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237960" y="1392120"/>
            <a:ext cx="424368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Closing a connec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Step 1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li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nd system sends TCP FIN control segment to server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Step 2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rv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ceives FIN, replies with ACK. Closes connection, sends FI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Step 3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li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ceives FIN, replies with ACK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ters “timed wait” - will respond with ACK to received FI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Step 4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rv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receives ACK.  Connection close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4" name=""/>
          <p:cNvGrpSpPr/>
          <p:nvPr/>
        </p:nvGrpSpPr>
        <p:grpSpPr>
          <a:xfrm>
            <a:off x="4311720" y="1731960"/>
            <a:ext cx="4264560" cy="4187880"/>
            <a:chOff x="4311720" y="1731960"/>
            <a:chExt cx="4264560" cy="4187880"/>
          </a:xfrm>
        </p:grpSpPr>
        <p:sp>
          <p:nvSpPr>
            <p:cNvPr id="1025" name=""/>
            <p:cNvSpPr/>
            <p:nvPr/>
          </p:nvSpPr>
          <p:spPr>
            <a:xfrm>
              <a:off x="5391000" y="2400480"/>
              <a:ext cx="2533680" cy="5904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26" name="" descr=""/>
            <p:cNvPicPr/>
            <p:nvPr/>
          </p:nvPicPr>
          <p:blipFill>
            <a:blip r:embed="rId1"/>
            <a:stretch/>
          </p:blipFill>
          <p:spPr>
            <a:xfrm>
              <a:off x="4978440" y="1731960"/>
              <a:ext cx="485640" cy="3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7" name=""/>
            <p:cNvSpPr/>
            <p:nvPr/>
          </p:nvSpPr>
          <p:spPr>
            <a:xfrm>
              <a:off x="5466240" y="1731960"/>
              <a:ext cx="69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 rot="706200">
              <a:off x="6482520" y="2441520"/>
              <a:ext cx="46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29" name="" descr=""/>
            <p:cNvPicPr/>
            <p:nvPr/>
          </p:nvPicPr>
          <p:blipFill>
            <a:blip r:embed="rId2"/>
            <a:stretch/>
          </p:blipFill>
          <p:spPr>
            <a:xfrm>
              <a:off x="7635960" y="1741320"/>
              <a:ext cx="485640" cy="3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0" name=""/>
            <p:cNvSpPr/>
            <p:nvPr/>
          </p:nvSpPr>
          <p:spPr>
            <a:xfrm>
              <a:off x="6937200" y="1751040"/>
              <a:ext cx="77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400720" y="4438800"/>
              <a:ext cx="2533680" cy="5904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5229360" y="4295880"/>
              <a:ext cx="0" cy="1342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7924680" y="2171880"/>
              <a:ext cx="0" cy="3409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 flipH="1">
              <a:off x="5362560" y="3133800"/>
              <a:ext cx="2495520" cy="7524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 rot="20673000">
              <a:off x="5241960" y="3228480"/>
              <a:ext cx="273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 rot="706200">
              <a:off x="6367680" y="444312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 flipH="1">
              <a:off x="5410080" y="3543480"/>
              <a:ext cx="2495520" cy="7524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 rot="20673000">
              <a:off x="5289480" y="3638160"/>
              <a:ext cx="273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381640" y="2324160"/>
              <a:ext cx="0" cy="334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4647960" y="2203560"/>
              <a:ext cx="72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lo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848360" y="3336840"/>
              <a:ext cx="72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lo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311720" y="5551560"/>
              <a:ext cx="86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los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124600" y="4276800"/>
              <a:ext cx="190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138640" y="5657760"/>
              <a:ext cx="190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 rot="16200000">
              <a:off x="4376520" y="4803120"/>
              <a:ext cx="131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timed wa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inciples of Congestion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753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onges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lly: “too many sources sending too much data too fast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handl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 from flow control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ifest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t packets (buffer overflow at route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ng delays (queueing in router buffe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op-10 problem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5343480" y="2000160"/>
            <a:ext cx="3324240" cy="32004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267160" y="2095560"/>
            <a:ext cx="3324240" cy="3200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ultiplexing/demultiplex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259920" y="2859120"/>
            <a:ext cx="4295880" cy="28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xing/demultiplex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sender, receiver port numbers, IP addr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urce, dest port #s in each seg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all: well-known port numbers for specific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41520" y="1343160"/>
            <a:ext cx="3655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athering data from multi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 processes, envelop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ta with header (later us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 demultiplex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19200" y="1278000"/>
            <a:ext cx="3610080" cy="14191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76160" y="211788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source port #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7075080" y="2117880"/>
            <a:ext cx="136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dest port #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257800" y="2495520"/>
            <a:ext cx="3328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267160" y="3486240"/>
            <a:ext cx="3324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6905520" y="2095560"/>
            <a:ext cx="0" cy="3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435000" y="166536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2 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7362720" y="1862280"/>
            <a:ext cx="120024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5252760" y="1871640"/>
            <a:ext cx="11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123960" y="3951360"/>
            <a:ext cx="150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mess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695560" y="2860560"/>
            <a:ext cx="24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ther header fiel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394240" y="5518080"/>
            <a:ext cx="325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CP/UDP segmen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693000" y="1066680"/>
            <a:ext cx="1738080" cy="398880"/>
            <a:chOff x="693000" y="1066680"/>
            <a:chExt cx="1738080" cy="398880"/>
          </a:xfrm>
        </p:grpSpPr>
        <p:sp>
          <p:nvSpPr>
            <p:cNvPr id="671" name=""/>
            <p:cNvSpPr/>
            <p:nvPr/>
          </p:nvSpPr>
          <p:spPr>
            <a:xfrm>
              <a:off x="743040" y="1096920"/>
              <a:ext cx="1590480" cy="33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93000" y="1066680"/>
              <a:ext cx="17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Multiplexing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uses/costs of congestion: scenario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247680" y="1447560"/>
            <a:ext cx="3152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enders, two recei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router, infinite buff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retransm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6039000" y="4172040"/>
            <a:ext cx="2790720" cy="20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 delays when conges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um achievable through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1" name="congestion0" descr=""/>
          <p:cNvPicPr/>
          <p:nvPr/>
        </p:nvPicPr>
        <p:blipFill>
          <a:blip r:embed="rId1"/>
          <a:stretch/>
        </p:blipFill>
        <p:spPr>
          <a:xfrm>
            <a:off x="3414600" y="1547640"/>
            <a:ext cx="5365800" cy="2129040"/>
          </a:xfrm>
          <a:prstGeom prst="rect">
            <a:avLst/>
          </a:prstGeom>
          <a:ln w="0">
            <a:noFill/>
          </a:ln>
        </p:spPr>
      </p:pic>
      <p:pic>
        <p:nvPicPr>
          <p:cNvPr id="1052" name="congestion_perf0" descr=""/>
          <p:cNvPicPr/>
          <p:nvPr/>
        </p:nvPicPr>
        <p:blipFill>
          <a:blip r:embed="rId2"/>
          <a:stretch/>
        </p:blipFill>
        <p:spPr>
          <a:xfrm>
            <a:off x="214200" y="4210200"/>
            <a:ext cx="5883480" cy="21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uses/costs of congestion: scenario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304560" y="1495440"/>
            <a:ext cx="6391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router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ni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uff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er retransmission of lost pac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5" name="congestion1" descr=""/>
          <p:cNvPicPr/>
          <p:nvPr/>
        </p:nvPicPr>
        <p:blipFill>
          <a:blip r:embed="rId1"/>
          <a:stretch/>
        </p:blipFill>
        <p:spPr>
          <a:xfrm>
            <a:off x="795240" y="2881440"/>
            <a:ext cx="7871040" cy="3124080"/>
          </a:xfrm>
          <a:prstGeom prst="rect">
            <a:avLst/>
          </a:prstGeom>
          <a:ln w="0">
            <a:noFill/>
          </a:ln>
        </p:spPr>
      </p:pic>
      <p:sp>
        <p:nvSpPr>
          <p:cNvPr id="1056" name=""/>
          <p:cNvSpPr/>
          <p:nvPr/>
        </p:nvSpPr>
        <p:spPr>
          <a:xfrm>
            <a:off x="3807000" y="4114800"/>
            <a:ext cx="19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ered loa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uses/costs of congestion: scenario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520200" y="1339920"/>
            <a:ext cx="833436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0"/>
          </a:bodyPr>
          <a:p>
            <a:pPr marL="171360" indent="-17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:                            (goodp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ransmission only when lo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orse: retransmission of delayed (not lost) packet makes         larger         than the previous case for the s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9" name=""/>
          <p:cNvGrpSpPr/>
          <p:nvPr/>
        </p:nvGrpSpPr>
        <p:grpSpPr>
          <a:xfrm>
            <a:off x="1812960" y="1225440"/>
            <a:ext cx="1333800" cy="689400"/>
            <a:chOff x="1812960" y="1225440"/>
            <a:chExt cx="1333800" cy="689400"/>
          </a:xfrm>
        </p:grpSpPr>
        <p:grpSp>
          <p:nvGrpSpPr>
            <p:cNvPr id="1060" name=""/>
            <p:cNvGrpSpPr/>
            <p:nvPr/>
          </p:nvGrpSpPr>
          <p:grpSpPr>
            <a:xfrm>
              <a:off x="1812960" y="1231560"/>
              <a:ext cx="573840" cy="683280"/>
              <a:chOff x="1812960" y="1231560"/>
              <a:chExt cx="573840" cy="683280"/>
            </a:xfrm>
          </p:grpSpPr>
          <p:sp>
            <p:nvSpPr>
              <p:cNvPr id="1061" name=""/>
              <p:cNvSpPr/>
              <p:nvPr/>
            </p:nvSpPr>
            <p:spPr>
              <a:xfrm>
                <a:off x="1812960" y="1231560"/>
                <a:ext cx="375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2008080" y="151596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i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3" name=""/>
            <p:cNvGrpSpPr/>
            <p:nvPr/>
          </p:nvGrpSpPr>
          <p:grpSpPr>
            <a:xfrm>
              <a:off x="2466720" y="1225440"/>
              <a:ext cx="680040" cy="655920"/>
              <a:chOff x="2466720" y="1225440"/>
              <a:chExt cx="680040" cy="655920"/>
            </a:xfrm>
          </p:grpSpPr>
          <p:sp>
            <p:nvSpPr>
              <p:cNvPr id="1064" name=""/>
              <p:cNvSpPr/>
              <p:nvPr/>
            </p:nvSpPr>
            <p:spPr>
              <a:xfrm>
                <a:off x="2466720" y="1225440"/>
                <a:ext cx="375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2711520" y="1482480"/>
                <a:ext cx="435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in’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6" name=""/>
            <p:cNvSpPr/>
            <p:nvPr/>
          </p:nvSpPr>
          <p:spPr>
            <a:xfrm>
              <a:off x="2178360" y="131904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7" name=""/>
          <p:cNvGrpSpPr/>
          <p:nvPr/>
        </p:nvGrpSpPr>
        <p:grpSpPr>
          <a:xfrm>
            <a:off x="4726080" y="1600200"/>
            <a:ext cx="1382400" cy="689400"/>
            <a:chOff x="4726080" y="1600200"/>
            <a:chExt cx="1382400" cy="689400"/>
          </a:xfrm>
        </p:grpSpPr>
        <p:grpSp>
          <p:nvGrpSpPr>
            <p:cNvPr id="1068" name=""/>
            <p:cNvGrpSpPr/>
            <p:nvPr/>
          </p:nvGrpSpPr>
          <p:grpSpPr>
            <a:xfrm>
              <a:off x="4726080" y="1600200"/>
              <a:ext cx="1382400" cy="689400"/>
              <a:chOff x="4726080" y="1600200"/>
              <a:chExt cx="1382400" cy="689400"/>
            </a:xfrm>
          </p:grpSpPr>
          <p:grpSp>
            <p:nvGrpSpPr>
              <p:cNvPr id="1069" name=""/>
              <p:cNvGrpSpPr/>
              <p:nvPr/>
            </p:nvGrpSpPr>
            <p:grpSpPr>
              <a:xfrm>
                <a:off x="4726080" y="1606320"/>
                <a:ext cx="573840" cy="683280"/>
                <a:chOff x="4726080" y="1606320"/>
                <a:chExt cx="573840" cy="683280"/>
              </a:xfrm>
            </p:grpSpPr>
            <p:sp>
              <p:nvSpPr>
                <p:cNvPr id="1070" name=""/>
                <p:cNvSpPr/>
                <p:nvPr/>
              </p:nvSpPr>
              <p:spPr>
                <a:xfrm>
                  <a:off x="4726080" y="1606320"/>
                  <a:ext cx="375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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>
                  <a:off x="4921200" y="1890720"/>
                  <a:ext cx="37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i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2" name=""/>
              <p:cNvGrpSpPr/>
              <p:nvPr/>
            </p:nvGrpSpPr>
            <p:grpSpPr>
              <a:xfrm>
                <a:off x="5379840" y="1600200"/>
                <a:ext cx="728640" cy="657720"/>
                <a:chOff x="5379840" y="1600200"/>
                <a:chExt cx="728640" cy="657720"/>
              </a:xfrm>
            </p:grpSpPr>
            <p:sp>
              <p:nvSpPr>
                <p:cNvPr id="1073" name=""/>
                <p:cNvSpPr/>
                <p:nvPr/>
              </p:nvSpPr>
              <p:spPr>
                <a:xfrm>
                  <a:off x="5379840" y="1600200"/>
                  <a:ext cx="375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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5574240" y="1859040"/>
                  <a:ext cx="534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ou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75" name=""/>
              <p:cNvSpPr/>
              <p:nvPr/>
            </p:nvSpPr>
            <p:spPr>
              <a:xfrm>
                <a:off x="5079600" y="164628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</a:rPr>
                  <a:t>&gt;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6" name=""/>
            <p:cNvSpPr/>
            <p:nvPr/>
          </p:nvSpPr>
          <p:spPr>
            <a:xfrm flipV="1">
              <a:off x="5040360" y="1720800"/>
              <a:ext cx="3168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7" name=""/>
          <p:cNvSpPr/>
          <p:nvPr/>
        </p:nvSpPr>
        <p:spPr>
          <a:xfrm>
            <a:off x="615960" y="5410080"/>
            <a:ext cx="8143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sts” of conges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work (retrans) for given “goodput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needed retransmissions: link carries multiple copies of p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8" name=""/>
          <p:cNvGraphicFramePr/>
          <p:nvPr/>
        </p:nvGraphicFramePr>
        <p:xfrm>
          <a:off x="1981080" y="2262240"/>
          <a:ext cx="4496040" cy="230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262240"/>
                    <a:ext cx="4496040" cy="23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80" name=""/>
          <p:cNvGrpSpPr/>
          <p:nvPr/>
        </p:nvGrpSpPr>
        <p:grpSpPr>
          <a:xfrm>
            <a:off x="1710000" y="4800600"/>
            <a:ext cx="573840" cy="683280"/>
            <a:chOff x="1710000" y="4800600"/>
            <a:chExt cx="573840" cy="683280"/>
          </a:xfrm>
        </p:grpSpPr>
        <p:sp>
          <p:nvSpPr>
            <p:cNvPr id="1081" name=""/>
            <p:cNvSpPr/>
            <p:nvPr/>
          </p:nvSpPr>
          <p:spPr>
            <a:xfrm>
              <a:off x="1710000" y="480060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905120" y="508500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3" name=""/>
          <p:cNvSpPr/>
          <p:nvPr/>
        </p:nvSpPr>
        <p:spPr>
          <a:xfrm flipV="1">
            <a:off x="2023920" y="4915080"/>
            <a:ext cx="32040" cy="63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4" name=""/>
          <p:cNvGrpSpPr/>
          <p:nvPr/>
        </p:nvGrpSpPr>
        <p:grpSpPr>
          <a:xfrm>
            <a:off x="6554880" y="4876920"/>
            <a:ext cx="728640" cy="657720"/>
            <a:chOff x="6554880" y="4876920"/>
            <a:chExt cx="728640" cy="657720"/>
          </a:xfrm>
        </p:grpSpPr>
        <p:sp>
          <p:nvSpPr>
            <p:cNvPr id="1085" name=""/>
            <p:cNvSpPr/>
            <p:nvPr/>
          </p:nvSpPr>
          <p:spPr>
            <a:xfrm>
              <a:off x="6554880" y="487692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749280" y="513576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uses/costs of congestion: scenario 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606240" y="1273320"/>
            <a:ext cx="833436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 sen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hop pa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/retrans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9" name=""/>
          <p:cNvGrpSpPr/>
          <p:nvPr/>
        </p:nvGrpSpPr>
        <p:grpSpPr>
          <a:xfrm>
            <a:off x="7366320" y="1271520"/>
            <a:ext cx="573840" cy="683280"/>
            <a:chOff x="7366320" y="1271520"/>
            <a:chExt cx="573840" cy="683280"/>
          </a:xfrm>
        </p:grpSpPr>
        <p:sp>
          <p:nvSpPr>
            <p:cNvPr id="1090" name=""/>
            <p:cNvSpPr/>
            <p:nvPr/>
          </p:nvSpPr>
          <p:spPr>
            <a:xfrm>
              <a:off x="7366320" y="127152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7561440" y="155592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2" name=""/>
          <p:cNvSpPr/>
          <p:nvPr/>
        </p:nvSpPr>
        <p:spPr>
          <a:xfrm>
            <a:off x="4578480" y="1333440"/>
            <a:ext cx="3390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Q: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happens as      and     increase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3" name="congestion2" descr=""/>
          <p:cNvPicPr/>
          <p:nvPr/>
        </p:nvPicPr>
        <p:blipFill>
          <a:blip r:embed="rId1"/>
          <a:stretch/>
        </p:blipFill>
        <p:spPr>
          <a:xfrm>
            <a:off x="669960" y="2398680"/>
            <a:ext cx="5643360" cy="3730680"/>
          </a:xfrm>
          <a:prstGeom prst="rect">
            <a:avLst/>
          </a:prstGeom>
          <a:ln w="0">
            <a:noFill/>
          </a:ln>
        </p:spPr>
      </p:pic>
      <p:grpSp>
        <p:nvGrpSpPr>
          <p:cNvPr id="1094" name=""/>
          <p:cNvGrpSpPr/>
          <p:nvPr/>
        </p:nvGrpSpPr>
        <p:grpSpPr>
          <a:xfrm>
            <a:off x="5527800" y="1643040"/>
            <a:ext cx="573840" cy="683280"/>
            <a:chOff x="5527800" y="1643040"/>
            <a:chExt cx="573840" cy="683280"/>
          </a:xfrm>
        </p:grpSpPr>
        <p:grpSp>
          <p:nvGrpSpPr>
            <p:cNvPr id="1095" name=""/>
            <p:cNvGrpSpPr/>
            <p:nvPr/>
          </p:nvGrpSpPr>
          <p:grpSpPr>
            <a:xfrm>
              <a:off x="5527800" y="1643040"/>
              <a:ext cx="573840" cy="683280"/>
              <a:chOff x="5527800" y="1643040"/>
              <a:chExt cx="573840" cy="683280"/>
            </a:xfrm>
          </p:grpSpPr>
          <p:sp>
            <p:nvSpPr>
              <p:cNvPr id="1096" name=""/>
              <p:cNvSpPr/>
              <p:nvPr/>
            </p:nvSpPr>
            <p:spPr>
              <a:xfrm>
                <a:off x="5527800" y="1643040"/>
                <a:ext cx="375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5722920" y="192744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i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8" name=""/>
            <p:cNvSpPr/>
            <p:nvPr/>
          </p:nvSpPr>
          <p:spPr>
            <a:xfrm flipV="1">
              <a:off x="5829120" y="1800360"/>
              <a:ext cx="2844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uses/costs of congestion: scenario 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333360" y="5153040"/>
            <a:ext cx="8267760" cy="4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152280" y="4581360"/>
            <a:ext cx="88394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 marL="174960" indent="-174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nother “cost” of conges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4960" indent="-174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packet dropped, any “upstream transmission capacity used for that packet was wast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4960" indent="-174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oughput goes to 0 as the heavy traffic approaches infi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4960" indent="-174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everyone’s best interest to “back off” on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2" name="congestion_perf2" descr=""/>
          <p:cNvPicPr/>
          <p:nvPr/>
        </p:nvPicPr>
        <p:blipFill>
          <a:blip r:embed="rId1"/>
          <a:stretch/>
        </p:blipFill>
        <p:spPr>
          <a:xfrm>
            <a:off x="669960" y="1562040"/>
            <a:ext cx="4421160" cy="2819520"/>
          </a:xfrm>
          <a:prstGeom prst="rect">
            <a:avLst/>
          </a:prstGeom>
          <a:ln w="0">
            <a:noFill/>
          </a:ln>
        </p:spPr>
      </p:pic>
      <p:pic>
        <p:nvPicPr>
          <p:cNvPr id="1103" name="congestion2" descr=""/>
          <p:cNvPicPr/>
          <p:nvPr/>
        </p:nvPicPr>
        <p:blipFill>
          <a:blip r:embed="rId2"/>
          <a:stretch/>
        </p:blipFill>
        <p:spPr>
          <a:xfrm>
            <a:off x="5213520" y="1477800"/>
            <a:ext cx="3519360" cy="23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pproaches towards congestion contr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42440" y="1866960"/>
            <a:ext cx="4264200" cy="39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nd-end congestion contro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explicit feedback from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gestion inferred from end-system observed loss, de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ach taken by T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96920" y="1846080"/>
            <a:ext cx="4294440" cy="40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twork-assisted congestion contro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ters provide feedback to end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le bit indicating congestion (SNA, DECbit, TCP/IP ECN, AT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icit rate sender should send 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542880" y="1380960"/>
            <a:ext cx="74772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broad approaches towards congestion contro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CP Congestion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320400" y="1324080"/>
            <a:ext cx="848052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-end control (no network assistan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mission rate limited by congestion window size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gw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over segm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0" name="gbn_seqnum" descr=""/>
          <p:cNvPicPr/>
          <p:nvPr/>
        </p:nvPicPr>
        <p:blipFill>
          <a:blip r:embed="rId1"/>
          <a:stretch/>
        </p:blipFill>
        <p:spPr>
          <a:xfrm>
            <a:off x="671400" y="2841480"/>
            <a:ext cx="7328160" cy="1474920"/>
          </a:xfrm>
          <a:prstGeom prst="rect">
            <a:avLst/>
          </a:prstGeom>
          <a:ln w="0">
            <a:noFill/>
          </a:ln>
        </p:spPr>
      </p:pic>
      <p:sp>
        <p:nvSpPr>
          <p:cNvPr id="1111" name=""/>
          <p:cNvSpPr/>
          <p:nvPr/>
        </p:nvSpPr>
        <p:spPr>
          <a:xfrm>
            <a:off x="485640" y="4591080"/>
            <a:ext cx="79153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 segments, each with MSS bytes sent in one RT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2" name=""/>
          <p:cNvGrpSpPr/>
          <p:nvPr/>
        </p:nvGrpSpPr>
        <p:grpSpPr>
          <a:xfrm>
            <a:off x="2098800" y="5143680"/>
            <a:ext cx="4435200" cy="809280"/>
            <a:chOff x="2098800" y="5143680"/>
            <a:chExt cx="4435200" cy="809280"/>
          </a:xfrm>
        </p:grpSpPr>
        <p:sp>
          <p:nvSpPr>
            <p:cNvPr id="1113" name=""/>
            <p:cNvSpPr/>
            <p:nvPr/>
          </p:nvSpPr>
          <p:spPr>
            <a:xfrm>
              <a:off x="2098800" y="5313240"/>
              <a:ext cx="180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throughput =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913200" y="5160960"/>
              <a:ext cx="119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w * MSS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108320" y="5513400"/>
              <a:ext cx="65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RTT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092920" y="5351400"/>
              <a:ext cx="131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Bytes/se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962160" y="5524560"/>
              <a:ext cx="1009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2124000" y="5143680"/>
              <a:ext cx="4410000" cy="8092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9" name=""/>
          <p:cNvSpPr/>
          <p:nvPr/>
        </p:nvSpPr>
        <p:spPr>
          <a:xfrm>
            <a:off x="1914480" y="3924360"/>
            <a:ext cx="1190520" cy="43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1897200" y="386388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gw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CP congestion control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696920" y="1294920"/>
            <a:ext cx="429444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“phase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low 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ngestion avoid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ant variab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gw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reshold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fines threshold between two slow start phase, congestion control 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228240" y="1294920"/>
            <a:ext cx="4359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obing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usable bandwidth: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deally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ransmit as fast as possible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gw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large as possible) without lo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l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cre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gw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ntil loss (conges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cre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gw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n begin probing (increasing) a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CP Slowst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237960" y="4314600"/>
            <a:ext cx="4297680" cy="17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nential increase (per RTT) in window size (not so slow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ss event: timeout (Tahoe TCP) and/or or three duplicate ACKs (Reno TC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What causes duplicate ACKs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642960" y="2203560"/>
            <a:ext cx="3887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e: Congwin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each segment ACK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gwin+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til (loss event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gWin &gt; thresho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552600" y="1790640"/>
            <a:ext cx="3924000" cy="2476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8" name=""/>
          <p:cNvGrpSpPr/>
          <p:nvPr/>
        </p:nvGrpSpPr>
        <p:grpSpPr>
          <a:xfrm>
            <a:off x="585720" y="1593720"/>
            <a:ext cx="3888000" cy="459720"/>
            <a:chOff x="585720" y="1593720"/>
            <a:chExt cx="3888000" cy="459720"/>
          </a:xfrm>
        </p:grpSpPr>
        <p:sp>
          <p:nvSpPr>
            <p:cNvPr id="1129" name=""/>
            <p:cNvSpPr/>
            <p:nvPr/>
          </p:nvSpPr>
          <p:spPr>
            <a:xfrm>
              <a:off x="657360" y="1657080"/>
              <a:ext cx="286704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585720" y="1593720"/>
              <a:ext cx="388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Slowstart algorith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1" name=""/>
          <p:cNvSpPr/>
          <p:nvPr/>
        </p:nvSpPr>
        <p:spPr>
          <a:xfrm>
            <a:off x="5700600" y="1947960"/>
            <a:ext cx="2505240" cy="352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2" name="" descr=""/>
          <p:cNvPicPr/>
          <p:nvPr/>
        </p:nvPicPr>
        <p:blipFill>
          <a:blip r:embed="rId1"/>
          <a:stretch/>
        </p:blipFill>
        <p:spPr>
          <a:xfrm>
            <a:off x="5292720" y="1312920"/>
            <a:ext cx="485640" cy="385560"/>
          </a:xfrm>
          <a:prstGeom prst="rect">
            <a:avLst/>
          </a:prstGeom>
          <a:ln w="0">
            <a:noFill/>
          </a:ln>
        </p:spPr>
      </p:pic>
      <p:sp>
        <p:nvSpPr>
          <p:cNvPr id="1133" name=""/>
          <p:cNvSpPr/>
          <p:nvPr/>
        </p:nvSpPr>
        <p:spPr>
          <a:xfrm>
            <a:off x="5723280" y="1312920"/>
            <a:ext cx="80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 rot="408000">
            <a:off x="6704640" y="1914120"/>
            <a:ext cx="121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e seg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 rot="16200000">
            <a:off x="5282280" y="2151720"/>
            <a:ext cx="48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T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6" name="" descr=""/>
          <p:cNvPicPr/>
          <p:nvPr/>
        </p:nvPicPr>
        <p:blipFill>
          <a:blip r:embed="rId2"/>
          <a:stretch/>
        </p:blipFill>
        <p:spPr>
          <a:xfrm>
            <a:off x="7950240" y="1322280"/>
            <a:ext cx="485640" cy="385920"/>
          </a:xfrm>
          <a:prstGeom prst="rect">
            <a:avLst/>
          </a:prstGeom>
          <a:ln w="0">
            <a:noFill/>
          </a:ln>
        </p:spPr>
      </p:pic>
      <p:sp>
        <p:nvSpPr>
          <p:cNvPr id="1137" name=""/>
          <p:cNvSpPr/>
          <p:nvPr/>
        </p:nvSpPr>
        <p:spPr>
          <a:xfrm>
            <a:off x="7236360" y="1332000"/>
            <a:ext cx="80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5695920" y="1762200"/>
            <a:ext cx="0" cy="384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8210520" y="1800360"/>
            <a:ext cx="0" cy="384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 flipH="1" flipV="1">
            <a:off x="5514840" y="1933200"/>
            <a:ext cx="5040" cy="2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5524560" y="2495520"/>
            <a:ext cx="4680" cy="223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5676840" y="2352240"/>
            <a:ext cx="2505240" cy="35244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3" name=""/>
          <p:cNvGrpSpPr/>
          <p:nvPr/>
        </p:nvGrpSpPr>
        <p:grpSpPr>
          <a:xfrm>
            <a:off x="7900920" y="5099040"/>
            <a:ext cx="665280" cy="368280"/>
            <a:chOff x="7900920" y="5099040"/>
            <a:chExt cx="665280" cy="368280"/>
          </a:xfrm>
        </p:grpSpPr>
        <p:sp>
          <p:nvSpPr>
            <p:cNvPr id="1144" name=""/>
            <p:cNvSpPr/>
            <p:nvPr/>
          </p:nvSpPr>
          <p:spPr>
            <a:xfrm>
              <a:off x="7964280" y="5172120"/>
              <a:ext cx="51444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7900920" y="5099040"/>
              <a:ext cx="66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6" name=""/>
          <p:cNvSpPr/>
          <p:nvPr/>
        </p:nvSpPr>
        <p:spPr>
          <a:xfrm>
            <a:off x="5705640" y="2728800"/>
            <a:ext cx="2504880" cy="352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5700600" y="2814480"/>
            <a:ext cx="2505240" cy="352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 flipV="1">
            <a:off x="5700600" y="3338280"/>
            <a:ext cx="2529000" cy="36180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 flipV="1">
            <a:off x="5715000" y="3462120"/>
            <a:ext cx="2505240" cy="35244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 rot="408000">
            <a:off x="6702840" y="2700000"/>
            <a:ext cx="128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wo seg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 rot="408000">
            <a:off x="6794280" y="3714480"/>
            <a:ext cx="13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seg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2" name=""/>
          <p:cNvGrpSpPr/>
          <p:nvPr/>
        </p:nvGrpSpPr>
        <p:grpSpPr>
          <a:xfrm>
            <a:off x="5695920" y="3733920"/>
            <a:ext cx="2519280" cy="651960"/>
            <a:chOff x="5695920" y="3733920"/>
            <a:chExt cx="2519280" cy="651960"/>
          </a:xfrm>
        </p:grpSpPr>
        <p:sp>
          <p:nvSpPr>
            <p:cNvPr id="1153" name=""/>
            <p:cNvSpPr/>
            <p:nvPr/>
          </p:nvSpPr>
          <p:spPr>
            <a:xfrm>
              <a:off x="5710320" y="3733920"/>
              <a:ext cx="2504880" cy="3520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695920" y="3828960"/>
              <a:ext cx="2505240" cy="3520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710320" y="3933720"/>
              <a:ext cx="2504880" cy="3520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5700600" y="4033800"/>
              <a:ext cx="2505240" cy="3520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7" name=""/>
          <p:cNvGrpSpPr/>
          <p:nvPr/>
        </p:nvGrpSpPr>
        <p:grpSpPr>
          <a:xfrm>
            <a:off x="5981760" y="4115160"/>
            <a:ext cx="2228400" cy="604440"/>
            <a:chOff x="5981760" y="4115160"/>
            <a:chExt cx="2228400" cy="604440"/>
          </a:xfrm>
        </p:grpSpPr>
        <p:sp>
          <p:nvSpPr>
            <p:cNvPr id="1158" name=""/>
            <p:cNvSpPr/>
            <p:nvPr/>
          </p:nvSpPr>
          <p:spPr>
            <a:xfrm flipV="1">
              <a:off x="5994360" y="4393080"/>
              <a:ext cx="2215800" cy="3265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V="1">
              <a:off x="5981760" y="4304880"/>
              <a:ext cx="2216160" cy="3265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 flipV="1">
              <a:off x="5994360" y="4207680"/>
              <a:ext cx="2215800" cy="3265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V="1">
              <a:off x="5985720" y="4115160"/>
              <a:ext cx="2216160" cy="3265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CP Congestion Avoid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652320" y="2127240"/>
            <a:ext cx="3973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* slowstart is over        *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* Congwin &gt; threshold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til (loss event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w segments ACK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gwin+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shold = Congwin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gwin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slow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561960" y="1847880"/>
            <a:ext cx="4067280" cy="3762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676440" y="1695600"/>
            <a:ext cx="313344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633240" y="1612800"/>
            <a:ext cx="398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ongestion avoid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7" name="congwin" descr=""/>
          <p:cNvPicPr/>
          <p:nvPr/>
        </p:nvPicPr>
        <p:blipFill>
          <a:blip r:embed="rId1"/>
          <a:stretch/>
        </p:blipFill>
        <p:spPr>
          <a:xfrm>
            <a:off x="4905360" y="2324160"/>
            <a:ext cx="3971880" cy="3284640"/>
          </a:xfrm>
          <a:prstGeom prst="rect">
            <a:avLst/>
          </a:prstGeom>
          <a:ln w="0">
            <a:noFill/>
          </a:ln>
        </p:spPr>
      </p:pic>
      <p:sp>
        <p:nvSpPr>
          <p:cNvPr id="1168" name=""/>
          <p:cNvSpPr/>
          <p:nvPr/>
        </p:nvSpPr>
        <p:spPr>
          <a:xfrm>
            <a:off x="3014640" y="4971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4105440" y="4638600"/>
            <a:ext cx="1438200" cy="14097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7305840" y="2914560"/>
            <a:ext cx="1438200" cy="14097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724360" y="2914560"/>
            <a:ext cx="1438560" cy="14097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704960" y="2543040"/>
            <a:ext cx="1438200" cy="9144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657440" y="1438200"/>
            <a:ext cx="1438200" cy="9144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80880" y="218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ultiplexing/demultiplexing: examp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" descr=""/>
          <p:cNvPicPr/>
          <p:nvPr/>
        </p:nvPicPr>
        <p:blipFill>
          <a:blip r:embed="rId1"/>
          <a:stretch/>
        </p:blipFill>
        <p:spPr>
          <a:xfrm>
            <a:off x="523800" y="2112840"/>
            <a:ext cx="787320" cy="625680"/>
          </a:xfrm>
          <a:prstGeom prst="rect">
            <a:avLst/>
          </a:prstGeom>
          <a:ln w="0">
            <a:noFill/>
          </a:ln>
        </p:spPr>
      </p:pic>
      <p:grpSp>
        <p:nvGrpSpPr>
          <p:cNvPr id="680" name=""/>
          <p:cNvGrpSpPr/>
          <p:nvPr/>
        </p:nvGrpSpPr>
        <p:grpSpPr>
          <a:xfrm>
            <a:off x="3389400" y="2093760"/>
            <a:ext cx="407520" cy="742320"/>
            <a:chOff x="3389400" y="2093760"/>
            <a:chExt cx="407520" cy="742320"/>
          </a:xfrm>
        </p:grpSpPr>
        <p:sp>
          <p:nvSpPr>
            <p:cNvPr id="681" name=""/>
            <p:cNvSpPr/>
            <p:nvPr/>
          </p:nvSpPr>
          <p:spPr>
            <a:xfrm>
              <a:off x="3389400" y="2663280"/>
              <a:ext cx="407520" cy="172800"/>
            </a:xfrm>
            <a:prstGeom prst="parallelogram">
              <a:avLst>
                <a:gd name="adj" fmla="val 9085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594240" y="2099520"/>
              <a:ext cx="189360" cy="56952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91920" y="2260800"/>
              <a:ext cx="257760" cy="5695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389400" y="2093760"/>
              <a:ext cx="407520" cy="172800"/>
            </a:xfrm>
            <a:prstGeom prst="parallelogram">
              <a:avLst>
                <a:gd name="adj" fmla="val 90850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796920" y="2105280"/>
              <a:ext cx="0" cy="55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H="1">
              <a:off x="3649680" y="2663280"/>
              <a:ext cx="146520" cy="1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423600" y="2334960"/>
              <a:ext cx="170280" cy="327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448440" y="2432880"/>
              <a:ext cx="130320" cy="11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9" name=""/>
          <p:cNvSpPr/>
          <p:nvPr/>
        </p:nvSpPr>
        <p:spPr>
          <a:xfrm>
            <a:off x="576000" y="1660680"/>
            <a:ext cx="93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246120" y="1641600"/>
            <a:ext cx="116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rver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362240" y="2200320"/>
            <a:ext cx="1962000" cy="9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1562400" y="1436760"/>
            <a:ext cx="1495080" cy="992160"/>
            <a:chOff x="1562400" y="1436760"/>
            <a:chExt cx="1495080" cy="992160"/>
          </a:xfrm>
        </p:grpSpPr>
        <p:sp>
          <p:nvSpPr>
            <p:cNvPr id="693" name=""/>
            <p:cNvSpPr/>
            <p:nvPr/>
          </p:nvSpPr>
          <p:spPr>
            <a:xfrm>
              <a:off x="1609560" y="1514520"/>
              <a:ext cx="1438560" cy="914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562400" y="1436760"/>
              <a:ext cx="1492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source port: 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dest. port: 2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609560" y="1752480"/>
              <a:ext cx="1438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619280" y="1971720"/>
              <a:ext cx="1438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1380960" y="2657520"/>
            <a:ext cx="1962360" cy="93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1574280" y="2522520"/>
            <a:ext cx="1564560" cy="992160"/>
            <a:chOff x="1574280" y="2522520"/>
            <a:chExt cx="1564560" cy="992160"/>
          </a:xfrm>
        </p:grpSpPr>
        <p:sp>
          <p:nvSpPr>
            <p:cNvPr id="699" name=""/>
            <p:cNvSpPr/>
            <p:nvPr/>
          </p:nvSpPr>
          <p:spPr>
            <a:xfrm>
              <a:off x="1657440" y="2600280"/>
              <a:ext cx="1438560" cy="914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574280" y="2522520"/>
              <a:ext cx="1564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source port:2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dest. port: 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657440" y="2838240"/>
              <a:ext cx="1438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667160" y="3057480"/>
              <a:ext cx="1438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3" name=""/>
          <p:cNvSpPr/>
          <p:nvPr/>
        </p:nvSpPr>
        <p:spPr>
          <a:xfrm>
            <a:off x="763920" y="3613320"/>
            <a:ext cx="33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rt use: simple telnet ap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4" name="" descr=""/>
          <p:cNvPicPr/>
          <p:nvPr/>
        </p:nvPicPr>
        <p:blipFill>
          <a:blip r:embed="rId2"/>
          <a:stretch/>
        </p:blipFill>
        <p:spPr>
          <a:xfrm>
            <a:off x="2800440" y="5132520"/>
            <a:ext cx="787320" cy="625320"/>
          </a:xfrm>
          <a:prstGeom prst="rect">
            <a:avLst/>
          </a:prstGeom>
          <a:ln w="0">
            <a:noFill/>
          </a:ln>
        </p:spPr>
      </p:pic>
      <p:grpSp>
        <p:nvGrpSpPr>
          <p:cNvPr id="705" name=""/>
          <p:cNvGrpSpPr/>
          <p:nvPr/>
        </p:nvGrpSpPr>
        <p:grpSpPr>
          <a:xfrm>
            <a:off x="6799320" y="4713120"/>
            <a:ext cx="540720" cy="923400"/>
            <a:chOff x="6799320" y="4713120"/>
            <a:chExt cx="540720" cy="923400"/>
          </a:xfrm>
        </p:grpSpPr>
        <p:sp>
          <p:nvSpPr>
            <p:cNvPr id="706" name=""/>
            <p:cNvSpPr/>
            <p:nvPr/>
          </p:nvSpPr>
          <p:spPr>
            <a:xfrm>
              <a:off x="6799320" y="5421600"/>
              <a:ext cx="540720" cy="214920"/>
            </a:xfrm>
            <a:prstGeom prst="parallelogram">
              <a:avLst>
                <a:gd name="adj" fmla="val 96921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071480" y="4720320"/>
              <a:ext cx="251640" cy="708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802920" y="4920840"/>
              <a:ext cx="342360" cy="7084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799320" y="4713120"/>
              <a:ext cx="540720" cy="214920"/>
            </a:xfrm>
            <a:prstGeom prst="parallelogram">
              <a:avLst>
                <a:gd name="adj" fmla="val 96921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340040" y="4727520"/>
              <a:ext cx="0" cy="69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H="1">
              <a:off x="7145280" y="5421600"/>
              <a:ext cx="194400" cy="20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845040" y="5013360"/>
              <a:ext cx="226440" cy="408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877800" y="5135040"/>
              <a:ext cx="172800" cy="14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4" name=""/>
          <p:cNvSpPr/>
          <p:nvPr/>
        </p:nvSpPr>
        <p:spPr>
          <a:xfrm>
            <a:off x="1382400" y="5079960"/>
            <a:ext cx="142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eb 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456320" y="4803840"/>
            <a:ext cx="116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e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rver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591000" y="5153040"/>
            <a:ext cx="31813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7" name="" descr=""/>
          <p:cNvPicPr/>
          <p:nvPr/>
        </p:nvPicPr>
        <p:blipFill>
          <a:blip r:embed="rId3"/>
          <a:stretch/>
        </p:blipFill>
        <p:spPr>
          <a:xfrm>
            <a:off x="6734160" y="2084400"/>
            <a:ext cx="787320" cy="625320"/>
          </a:xfrm>
          <a:prstGeom prst="rect">
            <a:avLst/>
          </a:prstGeom>
          <a:ln w="0">
            <a:noFill/>
          </a:ln>
        </p:spPr>
      </p:pic>
      <p:sp>
        <p:nvSpPr>
          <p:cNvPr id="718" name=""/>
          <p:cNvSpPr/>
          <p:nvPr/>
        </p:nvSpPr>
        <p:spPr>
          <a:xfrm>
            <a:off x="6456240" y="1441440"/>
            <a:ext cx="142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eb 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ost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7334280" y="2733840"/>
            <a:ext cx="0" cy="1933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H="1">
            <a:off x="6953400" y="2733840"/>
            <a:ext cx="9360" cy="1942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7199280" y="2913120"/>
            <a:ext cx="1519200" cy="1469520"/>
            <a:chOff x="7199280" y="2913120"/>
            <a:chExt cx="1519200" cy="1469520"/>
          </a:xfrm>
        </p:grpSpPr>
        <p:sp>
          <p:nvSpPr>
            <p:cNvPr id="722" name=""/>
            <p:cNvSpPr/>
            <p:nvPr/>
          </p:nvSpPr>
          <p:spPr>
            <a:xfrm>
              <a:off x="7257960" y="2970000"/>
              <a:ext cx="1437840" cy="1412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199280" y="2913120"/>
              <a:ext cx="15192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Source IP: 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Dest IP: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source port: 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dest. port: 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257960" y="3186000"/>
              <a:ext cx="1437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267320" y="3447720"/>
              <a:ext cx="1437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277040" y="3705120"/>
              <a:ext cx="1437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257960" y="3933720"/>
              <a:ext cx="1437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8" name=""/>
          <p:cNvGrpSpPr/>
          <p:nvPr/>
        </p:nvGrpSpPr>
        <p:grpSpPr>
          <a:xfrm>
            <a:off x="5627520" y="2903400"/>
            <a:ext cx="1519560" cy="1470240"/>
            <a:chOff x="5627520" y="2903400"/>
            <a:chExt cx="1519560" cy="1470240"/>
          </a:xfrm>
        </p:grpSpPr>
        <p:sp>
          <p:nvSpPr>
            <p:cNvPr id="729" name=""/>
            <p:cNvSpPr/>
            <p:nvPr/>
          </p:nvSpPr>
          <p:spPr>
            <a:xfrm>
              <a:off x="5686560" y="2960640"/>
              <a:ext cx="1438200" cy="1413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627520" y="2903400"/>
              <a:ext cx="15195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Source IP: 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Dest IP: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source port: 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dest. port: 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686560" y="3176640"/>
              <a:ext cx="1438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695920" y="3438360"/>
              <a:ext cx="1438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705640" y="3695760"/>
              <a:ext cx="1438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686560" y="3924360"/>
              <a:ext cx="1438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5" name=""/>
          <p:cNvSpPr/>
          <p:nvPr/>
        </p:nvSpPr>
        <p:spPr>
          <a:xfrm>
            <a:off x="6050160" y="5670720"/>
            <a:ext cx="26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rt use: Web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6" name=""/>
          <p:cNvGrpSpPr/>
          <p:nvPr/>
        </p:nvGrpSpPr>
        <p:grpSpPr>
          <a:xfrm>
            <a:off x="3989520" y="4637160"/>
            <a:ext cx="1519200" cy="1469520"/>
            <a:chOff x="3989520" y="4637160"/>
            <a:chExt cx="1519200" cy="1469520"/>
          </a:xfrm>
        </p:grpSpPr>
        <p:sp>
          <p:nvSpPr>
            <p:cNvPr id="737" name=""/>
            <p:cNvSpPr/>
            <p:nvPr/>
          </p:nvSpPr>
          <p:spPr>
            <a:xfrm>
              <a:off x="4048200" y="4694040"/>
              <a:ext cx="1437840" cy="1412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989520" y="4637160"/>
              <a:ext cx="15192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Source IP: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Dest IP: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source port: 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dest. port: 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048200" y="4910040"/>
              <a:ext cx="1437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057560" y="5171760"/>
              <a:ext cx="1437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067280" y="5429160"/>
              <a:ext cx="1437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048200" y="5657760"/>
              <a:ext cx="1437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"/>
          <p:cNvSpPr/>
          <p:nvPr/>
        </p:nvSpPr>
        <p:spPr>
          <a:xfrm>
            <a:off x="7020000" y="5048280"/>
            <a:ext cx="1933560" cy="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267080" y="-36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CP Fair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610160" y="1550520"/>
            <a:ext cx="4294080" cy="22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airness goal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N TCP sessions share same bottleneck link, each should get 1/N of link capa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95360" y="1476360"/>
            <a:ext cx="3457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P congestion avoidan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IMD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dditive increase, multiplicative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window by 1 per R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rease window by factor of 2 on loss ev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600120" y="295200"/>
            <a:ext cx="327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IM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4" name="" descr=""/>
          <p:cNvPicPr/>
          <p:nvPr/>
        </p:nvPicPr>
        <p:blipFill>
          <a:blip r:embed="rId1"/>
          <a:stretch/>
        </p:blipFill>
        <p:spPr>
          <a:xfrm>
            <a:off x="4518000" y="5213520"/>
            <a:ext cx="646200" cy="533160"/>
          </a:xfrm>
          <a:prstGeom prst="rect">
            <a:avLst/>
          </a:prstGeom>
          <a:ln w="0">
            <a:noFill/>
          </a:ln>
        </p:spPr>
      </p:pic>
      <p:sp>
        <p:nvSpPr>
          <p:cNvPr id="1175" name=""/>
          <p:cNvSpPr/>
          <p:nvPr/>
        </p:nvSpPr>
        <p:spPr>
          <a:xfrm>
            <a:off x="5826240" y="4991040"/>
            <a:ext cx="1198440" cy="3700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5826240" y="4923000"/>
            <a:ext cx="1198440" cy="26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835600" y="4694400"/>
            <a:ext cx="1198440" cy="430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8" name=""/>
          <p:cNvGrpSpPr/>
          <p:nvPr/>
        </p:nvGrpSpPr>
        <p:grpSpPr>
          <a:xfrm>
            <a:off x="6181560" y="4724280"/>
            <a:ext cx="497160" cy="118800"/>
            <a:chOff x="6181560" y="4724280"/>
            <a:chExt cx="497160" cy="118800"/>
          </a:xfrm>
        </p:grpSpPr>
        <p:grpSp>
          <p:nvGrpSpPr>
            <p:cNvPr id="1179" name=""/>
            <p:cNvGrpSpPr/>
            <p:nvPr/>
          </p:nvGrpSpPr>
          <p:grpSpPr>
            <a:xfrm>
              <a:off x="6181560" y="4725720"/>
              <a:ext cx="497160" cy="117360"/>
              <a:chOff x="6181560" y="4725720"/>
              <a:chExt cx="497160" cy="117360"/>
            </a:xfrm>
          </p:grpSpPr>
          <p:sp>
            <p:nvSpPr>
              <p:cNvPr id="1180" name=""/>
              <p:cNvSpPr/>
              <p:nvPr/>
            </p:nvSpPr>
            <p:spPr>
              <a:xfrm flipV="1">
                <a:off x="6181560" y="4725720"/>
                <a:ext cx="1774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6522480" y="484308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6345000" y="4727880"/>
                <a:ext cx="184680" cy="114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3" name=""/>
            <p:cNvGrpSpPr/>
            <p:nvPr/>
          </p:nvGrpSpPr>
          <p:grpSpPr>
            <a:xfrm>
              <a:off x="6181560" y="4724280"/>
              <a:ext cx="497160" cy="117360"/>
              <a:chOff x="6181560" y="4724280"/>
              <a:chExt cx="497160" cy="117360"/>
            </a:xfrm>
          </p:grpSpPr>
          <p:sp>
            <p:nvSpPr>
              <p:cNvPr id="1184" name=""/>
              <p:cNvSpPr/>
              <p:nvPr/>
            </p:nvSpPr>
            <p:spPr>
              <a:xfrm>
                <a:off x="6181560" y="4839480"/>
                <a:ext cx="1774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6522480" y="472428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 flipV="1">
                <a:off x="6345000" y="4724640"/>
                <a:ext cx="184680" cy="114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87" name=""/>
          <p:cNvSpPr/>
          <p:nvPr/>
        </p:nvSpPr>
        <p:spPr>
          <a:xfrm>
            <a:off x="7693200" y="5000760"/>
            <a:ext cx="1198440" cy="36972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7702560" y="4979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7702560" y="4941720"/>
            <a:ext cx="1198440" cy="26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7711920" y="4713120"/>
            <a:ext cx="1198800" cy="43056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2"/>
          <a:stretch/>
        </p:blipFill>
        <p:spPr>
          <a:xfrm>
            <a:off x="4470480" y="4222800"/>
            <a:ext cx="646200" cy="533520"/>
          </a:xfrm>
          <a:prstGeom prst="rect">
            <a:avLst/>
          </a:prstGeom>
          <a:ln w="0">
            <a:noFill/>
          </a:ln>
        </p:spPr>
      </p:pic>
      <p:sp>
        <p:nvSpPr>
          <p:cNvPr id="1192" name=""/>
          <p:cNvSpPr/>
          <p:nvPr/>
        </p:nvSpPr>
        <p:spPr>
          <a:xfrm>
            <a:off x="7377120" y="4857840"/>
            <a:ext cx="147600" cy="19980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6686640" y="4919760"/>
            <a:ext cx="147600" cy="19980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6977160" y="4857840"/>
            <a:ext cx="147600" cy="19980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4408200" y="387972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CP connection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5805360" y="5308560"/>
            <a:ext cx="131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ottlen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apacity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7" name=""/>
          <p:cNvGrpSpPr/>
          <p:nvPr/>
        </p:nvGrpSpPr>
        <p:grpSpPr>
          <a:xfrm>
            <a:off x="8039160" y="4771800"/>
            <a:ext cx="497160" cy="118800"/>
            <a:chOff x="8039160" y="4771800"/>
            <a:chExt cx="497160" cy="118800"/>
          </a:xfrm>
        </p:grpSpPr>
        <p:grpSp>
          <p:nvGrpSpPr>
            <p:cNvPr id="1198" name=""/>
            <p:cNvGrpSpPr/>
            <p:nvPr/>
          </p:nvGrpSpPr>
          <p:grpSpPr>
            <a:xfrm>
              <a:off x="8039160" y="4773600"/>
              <a:ext cx="497160" cy="117000"/>
              <a:chOff x="8039160" y="4773600"/>
              <a:chExt cx="497160" cy="117000"/>
            </a:xfrm>
          </p:grpSpPr>
          <p:sp>
            <p:nvSpPr>
              <p:cNvPr id="1199" name=""/>
              <p:cNvSpPr/>
              <p:nvPr/>
            </p:nvSpPr>
            <p:spPr>
              <a:xfrm flipV="1">
                <a:off x="8039160" y="4773600"/>
                <a:ext cx="1771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8380080" y="489060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8202600" y="4775760"/>
                <a:ext cx="184320" cy="114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2" name=""/>
            <p:cNvGrpSpPr/>
            <p:nvPr/>
          </p:nvGrpSpPr>
          <p:grpSpPr>
            <a:xfrm>
              <a:off x="8039160" y="4771800"/>
              <a:ext cx="497160" cy="117000"/>
              <a:chOff x="8039160" y="4771800"/>
              <a:chExt cx="497160" cy="117000"/>
            </a:xfrm>
          </p:grpSpPr>
          <p:sp>
            <p:nvSpPr>
              <p:cNvPr id="1203" name=""/>
              <p:cNvSpPr/>
              <p:nvPr/>
            </p:nvSpPr>
            <p:spPr>
              <a:xfrm>
                <a:off x="8039160" y="4886640"/>
                <a:ext cx="1771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8380080" y="477180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 flipV="1">
                <a:off x="8202600" y="4772160"/>
                <a:ext cx="184320" cy="114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06" name=""/>
          <p:cNvSpPr/>
          <p:nvPr/>
        </p:nvSpPr>
        <p:spPr>
          <a:xfrm>
            <a:off x="3963600" y="5432400"/>
            <a:ext cx="156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C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nection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5172120" y="4334040"/>
            <a:ext cx="3828960" cy="718920"/>
          </a:xfrm>
          <a:custGeom>
            <a:avLst/>
            <a:gdLst/>
            <a:ahLst/>
            <a:rect l="l" t="t" r="r" b="b"/>
            <a:pathLst>
              <a:path w="2412" h="453">
                <a:moveTo>
                  <a:pt x="0" y="0"/>
                </a:moveTo>
                <a:cubicBezTo>
                  <a:pt x="93" y="65"/>
                  <a:pt x="156" y="318"/>
                  <a:pt x="558" y="390"/>
                </a:cubicBezTo>
                <a:cubicBezTo>
                  <a:pt x="959" y="453"/>
                  <a:pt x="2026" y="423"/>
                  <a:pt x="2412" y="432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6848640" y="4919760"/>
            <a:ext cx="147600" cy="199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5114880" y="5068800"/>
            <a:ext cx="3828960" cy="719280"/>
          </a:xfrm>
          <a:custGeom>
            <a:avLst/>
            <a:gdLst/>
            <a:ahLst/>
            <a:rect l="l" t="t" r="r" b="b"/>
            <a:pathLst>
              <a:path w="2412" h="453">
                <a:moveTo>
                  <a:pt x="0" y="453"/>
                </a:moveTo>
                <a:cubicBezTo>
                  <a:pt x="93" y="388"/>
                  <a:pt x="156" y="134"/>
                  <a:pt x="558" y="63"/>
                </a:cubicBezTo>
                <a:cubicBezTo>
                  <a:pt x="959" y="0"/>
                  <a:pt x="2026" y="36"/>
                  <a:pt x="2412" y="29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is TCP fai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09480" y="140004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competing sess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ve increase gives slope of 1, as throughput incre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ve decrease decreases throughput proportional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2400480" y="5848200"/>
            <a:ext cx="3638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 flipV="1">
            <a:off x="2400480" y="2752200"/>
            <a:ext cx="0" cy="3086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 flipH="1">
            <a:off x="2400480" y="3156480"/>
            <a:ext cx="2347920" cy="2676960"/>
          </a:xfrm>
          <a:prstGeom prst="line">
            <a:avLst/>
          </a:prstGeom>
          <a:ln w="1908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2381400" y="3000240"/>
            <a:ext cx="2819160" cy="28101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2030400" y="2828880"/>
            <a:ext cx="4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4983120" y="5877000"/>
            <a:ext cx="4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3259080" y="2819520"/>
            <a:ext cx="354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qual bandwidth sh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1839960" y="5857920"/>
            <a:ext cx="354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nection 1 through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 rot="16203000">
            <a:off x="425160" y="4395600"/>
            <a:ext cx="354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nection 2 through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flipH="1">
            <a:off x="3723840" y="4620960"/>
            <a:ext cx="852840" cy="97308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4173480" y="467676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ngestion avoidance: additive incr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flipH="1">
            <a:off x="3390480" y="4638600"/>
            <a:ext cx="1171800" cy="6318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4623120" y="4437000"/>
            <a:ext cx="362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oss: decrease window by factor of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 flipH="1">
            <a:off x="3397680" y="4306320"/>
            <a:ext cx="873720" cy="96768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3887640" y="419112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ngestion avoidance: additive incr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 flipH="1">
            <a:off x="3247920" y="4352760"/>
            <a:ext cx="981360" cy="765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4223160" y="3989520"/>
            <a:ext cx="362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oss: decrease window by factor of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H="1">
            <a:off x="3253320" y="4160520"/>
            <a:ext cx="850680" cy="95580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 flipH="1">
            <a:off x="3180960" y="4172040"/>
            <a:ext cx="911160" cy="8888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 flipH="1">
            <a:off x="3174120" y="4097520"/>
            <a:ext cx="851040" cy="95544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291600" y="6248520"/>
            <a:ext cx="855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ually the two connections fluctuate along equal bandwidth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CP vs. UD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8483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o use TC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reliable network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nt flow, congestion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o use UD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’t want overhead of T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’t want congestion control!  I.e. we don’t want to be “fai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media ap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n’t want data rate throttled, but ironically this can lead to unfair transmission rate and could actually bring all traffic to a ha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ld also be unfair using TCP by opening multiple parallel connections (often done with web da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DP: User Datagram Protocol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RFC 768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2840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frills,” “bare bones” Internet transport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st effort” service, UDP segments may b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ivered out of order to ap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connectionles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handshaking between UDP sender, rece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UDP segment handled independently of oth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830840" y="1714320"/>
            <a:ext cx="4083120" cy="39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hy is there a UD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onnection establishment (which can add dela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: no connection state at sender, rece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segment h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ongestion control: UDP can blast away as fast as des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591080" y="1638360"/>
            <a:ext cx="4248000" cy="38386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DP: mo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2840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used for streaming multimedia ap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versial: no congestion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UDP uses (why?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N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transfer over UDP: add reliability at application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-specific error recove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743440" y="2000160"/>
            <a:ext cx="3324240" cy="32004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667480" y="2095560"/>
            <a:ext cx="3324240" cy="3200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5676120" y="211788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ource port #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7475040" y="2117880"/>
            <a:ext cx="136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st port #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657760" y="2495520"/>
            <a:ext cx="3328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648400" y="2895480"/>
            <a:ext cx="3324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V="1">
            <a:off x="7305840" y="2095560"/>
            <a:ext cx="0" cy="3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834960" y="166536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2 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763040" y="1862280"/>
            <a:ext cx="119988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H="1">
            <a:off x="5652720" y="1871640"/>
            <a:ext cx="11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514920" y="3951360"/>
            <a:ext cx="1521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mess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070320" y="5518080"/>
            <a:ext cx="270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DP segmen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7305840" y="2505240"/>
            <a:ext cx="0" cy="3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020280" y="250812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7555320" y="249876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ecks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916080" y="2212920"/>
            <a:ext cx="1570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ngth,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ytes of U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gment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clu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381640" y="2543040"/>
            <a:ext cx="714240" cy="14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enrick Mock</cp:lastModifiedBy>
  <dcterms:modified xsi:type="dcterms:W3CDTF">2001-11-20T02:46:37Z</dcterms:modified>
  <cp:revision>97</cp:revision>
  <dc:subject/>
  <dc:title>PowerPoint Presentation</dc:title>
</cp:coreProperties>
</file>