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3724200" y="271440"/>
            <a:ext cx="2467080" cy="40968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204840" y="1776240"/>
            <a:ext cx="96552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mmer 2004 Inter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cientific Applications International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lyeska Integration Documentation and Data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614760" y="5451480"/>
            <a:ext cx="2619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thew L. Lind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d Project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le to pick a modified data value and follow it through the entire integration h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step in the process defined as a technical process and as business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onents inventoried and inde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ep-by-step data recovery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omated recovery scri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ra time allowed me to write a suite of helper scripts using the BizTalk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IC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-national scientific research and engineering fi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 billion dollars a year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loyee owned, capitalistic busines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yeska Pipeline Company 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ndling of maintainance, upgrades, and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ra work on project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lue added service by forseeing and handling future issues before they arise ( why I has hired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ject Background: Alyeska's Intranet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storage and retri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ulat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53040" y="2419200"/>
            <a:ext cx="452520" cy="452520"/>
          </a:xfrm>
          <a:prstGeom prst="ellipse">
            <a:avLst/>
          </a:prstGeom>
          <a:solidFill>
            <a:srgbClr val="33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8800" y="3646440"/>
            <a:ext cx="452520" cy="452520"/>
          </a:xfrm>
          <a:prstGeom prst="ellipse">
            <a:avLst/>
          </a:prstGeom>
          <a:solidFill>
            <a:srgbClr val="33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80400" y="3909960"/>
            <a:ext cx="452160" cy="452520"/>
          </a:xfrm>
          <a:prstGeom prst="ellipse">
            <a:avLst/>
          </a:prstGeom>
          <a:solidFill>
            <a:srgbClr val="33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07240" y="2343240"/>
            <a:ext cx="452520" cy="452520"/>
          </a:xfrm>
          <a:prstGeom prst="ellipse">
            <a:avLst/>
          </a:prstGeom>
          <a:solidFill>
            <a:srgbClr val="33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21600" y="5275440"/>
            <a:ext cx="452520" cy="452160"/>
          </a:xfrm>
          <a:prstGeom prst="ellipse">
            <a:avLst/>
          </a:prstGeom>
          <a:solidFill>
            <a:srgbClr val="33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85280" y="3684600"/>
            <a:ext cx="452520" cy="452520"/>
          </a:xfrm>
          <a:prstGeom prst="ellipse">
            <a:avLst/>
          </a:prstGeom>
          <a:solidFill>
            <a:srgbClr val="33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02480" y="5226120"/>
            <a:ext cx="452160" cy="452520"/>
          </a:xfrm>
          <a:prstGeom prst="ellipse">
            <a:avLst/>
          </a:prstGeom>
          <a:solidFill>
            <a:srgbClr val="33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>
            <a:off x="7207200" y="4362480"/>
            <a:ext cx="1140480" cy="91512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9" idx="3"/>
            <a:endCxn id="52" idx="1"/>
          </p:cNvCxnSpPr>
          <p:nvPr/>
        </p:nvCxnSpPr>
        <p:spPr>
          <a:xfrm flipV="1">
            <a:off x="7432560" y="3909600"/>
            <a:ext cx="1154880" cy="22608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7" idx="3"/>
            <a:endCxn id="50" idx="1"/>
          </p:cNvCxnSpPr>
          <p:nvPr/>
        </p:nvCxnSpPr>
        <p:spPr>
          <a:xfrm flipV="1">
            <a:off x="6504120" y="2567880"/>
            <a:ext cx="1203840" cy="7524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7" idx="2"/>
            <a:endCxn id="49" idx="0"/>
          </p:cNvCxnSpPr>
          <p:nvPr/>
        </p:nvCxnSpPr>
        <p:spPr>
          <a:xfrm>
            <a:off x="6278400" y="2870280"/>
            <a:ext cx="929520" cy="104040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0"/>
            <a:endCxn id="53" idx="0"/>
          </p:cNvCxnSpPr>
          <p:nvPr/>
        </p:nvCxnSpPr>
        <p:spPr>
          <a:xfrm rot="10800000">
            <a:off x="6027120" y="5225400"/>
            <a:ext cx="2318400" cy="5004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9" idx="1"/>
            <a:endCxn id="48" idx="3"/>
          </p:cNvCxnSpPr>
          <p:nvPr/>
        </p:nvCxnSpPr>
        <p:spPr>
          <a:xfrm rot="10800000">
            <a:off x="5788800" y="3871080"/>
            <a:ext cx="1191600" cy="264240"/>
          </a:xfrm>
          <a:prstGeom prst="bentConnector3">
            <a:avLst>
              <a:gd name="adj1" fmla="val 4998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266840" y="6420600"/>
            <a:ext cx="7319880" cy="579240"/>
          </a:xfrm>
          <a:prstGeom prst="roundRect">
            <a:avLst>
              <a:gd name="adj" fmla="val 1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roblem:  Data Synchro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gration Technologies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acle “event hooks” and “stored procedur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croSoft BizT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crosoft BizTalk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s a publish-subscribe architecture to synchroniz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ML data shared betwene applications using XLS transformation m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grated mechanism for scheduled syn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flow is described using graphical “orchestrations”.  Compiled orchestrations are called XLANG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9720" y="4183200"/>
            <a:ext cx="1573560" cy="231480"/>
          </a:xfrm>
          <a:prstGeom prst="roundRect">
            <a:avLst>
              <a:gd name="adj" fmla="val 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53240" y="6475680"/>
            <a:ext cx="1573200" cy="231480"/>
          </a:xfrm>
          <a:prstGeom prst="roundRect">
            <a:avLst>
              <a:gd name="adj" fmla="val 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7200" y="4799160"/>
            <a:ext cx="1573200" cy="231480"/>
          </a:xfrm>
          <a:prstGeom prst="roundRect">
            <a:avLst>
              <a:gd name="adj" fmla="val 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65400" y="4017240"/>
            <a:ext cx="3979800" cy="819000"/>
          </a:xfrm>
          <a:prstGeom prst="ellipse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blication / Subscription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5" idx="3"/>
            <a:endCxn id="68" idx="1"/>
          </p:cNvCxnSpPr>
          <p:nvPr/>
        </p:nvCxnSpPr>
        <p:spPr>
          <a:xfrm>
            <a:off x="1942920" y="4296960"/>
            <a:ext cx="1122840" cy="129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>
            <a:stCxn id="68" idx="2"/>
            <a:endCxn id="66" idx="1"/>
          </p:cNvCxnSpPr>
          <p:nvPr/>
        </p:nvCxnSpPr>
        <p:spPr>
          <a:xfrm>
            <a:off x="5054760" y="5505480"/>
            <a:ext cx="1697760" cy="10864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3"/>
            <a:endCxn id="67" idx="1"/>
          </p:cNvCxnSpPr>
          <p:nvPr/>
        </p:nvCxnSpPr>
        <p:spPr>
          <a:xfrm>
            <a:off x="7045200" y="4425480"/>
            <a:ext cx="1332720" cy="49140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933120" y="1344600"/>
            <a:ext cx="83746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s changed at “publisher”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ling mechanism checks for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s retrieved from “publisher” and placed in a distribution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cribers are then distributed their upda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0600" y="476280"/>
            <a:ext cx="7583400" cy="463320"/>
          </a:xfrm>
          <a:prstGeom prst="roundRect">
            <a:avLst>
              <a:gd name="adj" fmla="val 1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ublish-Subscribe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ject 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alyze and map the flow of data between exist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d all existing data depend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ile inventory of all components, interfaces, xml specifica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eate data recovery steps for each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automated recovery scripts ( registry editing, vb script, .ne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y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d a custom modified uml activity diagram to describe the data flow from publishing to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LANG schedules were included in a format similar to orchestrations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lit diagrams between publishing and subscriptions for seperat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onent inventory and interface usage for each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d finished graphical documentation to compile data recovery steps and create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