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067-F51F-44EB-AF3A-18D07AAE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203-4255-4E33-BC48-848D844C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969-F07C-4317-9017-A170602F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6DD-E8F4-4D97-A693-60C0AFEF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024-21BB-4E3D-A6E0-BE38A7C1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7C3-7708-416C-A6C4-1390EE2C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D59-1A59-4E0F-8637-FF4D0E70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97B-5517-4119-9CB4-8BBD1930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E74-7459-4744-82FE-1256B49A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059-AFB3-40C9-867A-B9A0017D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C1D-E551-48E8-A01A-7D27F17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46CA-ECE6-4FF5-9B72-28B51446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B58-143C-4678-83C8-7ADDB72F9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 Comm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Merr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219320"/>
          <a:ext cx="7543800" cy="52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54380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on the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arting, everything is loaded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 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y and fil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access to the other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 charge of communicating with the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File Import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312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49120" y="5029200"/>
            <a:ext cx="560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ort directories of lo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le of a full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query the DNS server for computer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248520" cy="3081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9920" y="4952880"/>
            <a:ext cx="50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a logical WAN to sort the IP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o not every entry needs an IP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lete entire branches or sing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19 credits and wor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recursive function to build sql queries from the tree (the main for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 with a way to store the WAN con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my own date and ip classes suited more for my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nnect to, read from, and write to an Access database in C#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manipulation (creating keys, saving values to them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ome of the more complex C# forms work (TreeView for examp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better design document would have saved 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mmander will allow for better monitoring of SUS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S lookups will help us pinpoint possible weak sp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eneration will provide data that can be valuable for future upgrades and security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reports can help technicians make sure that remote offices are being updated while on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Natural Resources uses a Software Update Server to update the user’s P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g files are cry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way to evaluate the lo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reports would prove how useful the system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a system that will decipher the log files and provide helpful feedback to the server administ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system dynamic so anyone using a Software Update Server can us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 Comma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mport entire directories of log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s relevant information into an Access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the creation of custom logical WANs for sor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 HTML or Plain Text reports from user-specified qu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stom wan config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 a “scripting” lik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ll of the extracted information from the lo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keys to store important information on file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a Day’s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Software: Microsoft Internet Information Services 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Version: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Date: 2004-11-29 00:0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Fields: date time c-ip cs-username s-ip s-port cs-method cs-uri-stem cs-uri-query sc-status cs(User-Age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00:02 204.126.118.185 - 204.89.222.92 80 GET /wutrack.bin V=2&amp;U=4ebd9c766be10a43b16b975d41400fa7&amp;C=iu&amp;A=n&amp;I=&amp;D=&amp;P=5.0.893.2.0.1.0&amp;L=en-US&amp;S=s&amp;E=00000000&amp;M=&amp;X=041129115959691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00:02 204.126.118.185 - 204.89.222.92 80 GET /wutrack.bin V=2&amp;U=4ebd9c766be10a43b16b975d41400fa7&amp;C=iu&amp;A=n&amp;I=&amp;D=&amp;P=5.0.893.2.0.1.0&amp;L=en-US&amp;S=s&amp;E=00000000&amp;M=&amp;X=04112912000003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11:01 146.63.96.98 - 204.89.222.92 80 HEAD /iuident.cab 041129001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11:01 146.63.96.98 - 204.89.222.92 80 GET /iuident.cab 041129001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11:01 146.63.96.98 - 204.89.222.92 80 HEAD /selfupdate/AU/x86/W2K/en/wuaucomp.cab 041129001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11:01 146.63.96.98 - 204.89.222.92 80 GET /selfupdate/AU/x86/W2K/en/wuaucomp.cab 041129001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11:01 146.63.96.98 - 204.89.222.92 80 HEAD /iuident.cab 041129001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-11-29 00:11:01 146.63.96.98 - 204.89.222.92 80 GET /wutrack.bin V=2&amp;U=9a8eec4e9adc7043b45ba833addf8410&amp;C=iu&amp;A=n&amp;I=&amp;D=&amp;P=5.0.893.2.0.1.0&amp;L=en-US&amp;S=s&amp;E=00000000&amp;M=&amp;X=041129001255852 200 Industry+Update+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inues for thousands of lines…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 Configuration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this is a comment. Ignore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first 4 numbers are the base ip and the last number defines the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th floor (146 63 110 35 12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th floor (204 89 222 1 2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th floor (146 63 111 31 1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th floor (146 63 110 166 2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th floor (204 17 169 100 2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th floor (146 63 165 50 12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th floor (204 126 118 50 2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O (146 63 116 160 18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the WAN Confi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between each parenthesis is a branch in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function used to load and save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ignored when lo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edit by hand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9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5120" y="762120"/>
          <a:ext cx="50688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5068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355200" y="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5:03:42Z</dcterms:created>
  <dc:creator>s</dc:creator>
  <dc:description/>
  <dc:language>en-US</dc:language>
  <cp:lastModifiedBy>ninja</cp:lastModifiedBy>
  <dcterms:modified xsi:type="dcterms:W3CDTF">2005-04-13T18:55:51Z</dcterms:modified>
  <cp:revision>106</cp:revision>
  <dc:subject/>
  <dc:title>Software Update Server Management System</dc:title>
</cp:coreProperties>
</file>