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82C-3D4C-41FB-9ED3-0C02F98B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374-FFC2-4B07-8185-555A25F6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358-221C-4763-980E-8CE09851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841-0FBA-4A09-9BAE-097C9BE09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E1A9-7B1E-42C3-BCEA-F43BCC87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4BF3-8D92-4C1B-88C6-0D367A6B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E1EA-AD71-4F54-8225-8AFB5266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9582-C4C2-43E6-8B0B-F8E2B4F6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C2AA-4F7F-4157-9EF4-2C51181E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9557-D764-4693-BEF6-1A7C1A2F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C9A8-FFE9-49EE-B1C2-48ADD35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0DA-4AF5-434C-8239-A8B3F7C7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C864-3B0B-41EE-9793-2B0E27D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210A-2A73-4330-9280-4FFC3EF4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E4C3-9BC0-40D6-AA1A-FDB243B4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31CA-8BD2-4E49-A155-2E340A2F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6B87-1DA4-46F8-962A-2A77EEAE6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188-6BB3-4A62-BF2B-8A15C7F3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AEC-6041-4B7D-9BE7-1A96DAF1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80DA-5EF3-4177-B099-EAEF332A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F41-6261-4C4E-94DF-1258F9EB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E7A-456A-4048-90A4-EAB78C0D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051-72FA-4385-A1CB-07F2C5DB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020-6067-426E-B13E-F699885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B7FF-03A1-4C32-A6C2-B3DA8A5BC0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AEE6-45E2-4F31-ADC5-32A76C8CFE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244600" y="3803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ship 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Max Konovalo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 3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22440" y="1265400"/>
            <a:ext cx="39020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0200" y="382680"/>
            <a:ext cx="779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DF String Wri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2600" y="1211400"/>
            <a:ext cx="6686640" cy="424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36560" y="2892600"/>
            <a:ext cx="729792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umbnails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ize all files in folder and subf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for files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aspect rat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y padding co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waterma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ommand-line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ve settings into *.INI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umbnails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17680" y="1886040"/>
            <a:ext cx="64119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umbnails Generator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82640" y="2093760"/>
            <a:ext cx="599148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46000" y="304920"/>
            <a:ext cx="77932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umbnails Generator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17600" y="1432080"/>
            <a:ext cx="69627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8280" y="277560"/>
            <a:ext cx="77929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umbnails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47920" y="1184400"/>
            <a:ext cx="6367320" cy="4593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51000" y="6004080"/>
            <a:ext cx="841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vailable at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Tahoma"/>
              </a:rPr>
              <a:t>http://www.math.uaa.alaska.edu/~konovalm/cs395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bsi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an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P with VB 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ODB + MS SQL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Basic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SQL Server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life hands-on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5135400"/>
            <a:ext cx="85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ahoma"/>
              </a:rPr>
              <a:t>http://www.math.uaa.alaska.edu/~konovalm/cs395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ny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ed in 195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wide services since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of the Anchorage Real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9% of the Valley Real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of the Kenai Peninsula Real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of the Kachemak Real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% of the Kodiak Real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brokerages in Cordova, Haines, Fairbanks, Juneau, Ketchikan, Petersburg, Seward, and Valdez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Estate Business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s, forms, calculator, organizer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cal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lpde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Estate Listings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yldFy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lexM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ing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Basic 6 / VS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SQL Server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ADOD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BA (MS Access 2000 / 199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FrontPag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lex to WyldFyre conver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Access 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&gt; 255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!&gt; 2 Gb file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Solution – Flat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9200" y="260280"/>
            <a:ext cx="77929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B Explorer (Scann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6840" y="1162080"/>
            <a:ext cx="903132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rage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77840" y="1941480"/>
            <a:ext cx="73501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rage” – table 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2120" y="2106720"/>
            <a:ext cx="88362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icture “Grabber” D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Binary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the file header (JPG or B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urn File Size and Save it if correct, otherwise, return 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edi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BA (MS Access 2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LL (to be used with MS Access 9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6:17:25Z</dcterms:created>
  <dc:creator>user</dc:creator>
  <dc:description/>
  <dc:language>en-US</dc:language>
  <cp:lastModifiedBy>user</cp:lastModifiedBy>
  <dcterms:modified xsi:type="dcterms:W3CDTF">2006-04-24T03:49:04Z</dcterms:modified>
  <cp:revision>20</cp:revision>
  <dc:subject/>
  <dc:title>Alaska MLS</dc:title>
</cp:coreProperties>
</file>